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2822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e6e64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6e64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Lucidasans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  <a:p>
            <a:pPr lvl="1" marL="863640" indent="-287280">
              <a:lnSpc>
                <a:spcPct val="9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Lucidasans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  <a:p>
            <a:pPr lvl="2" marL="1295280" indent="-215640">
              <a:lnSpc>
                <a:spcPct val="9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Lucidasans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  <a:p>
            <a:pPr lvl="3" marL="1727280" indent="-216000">
              <a:lnSpc>
                <a:spcPct val="9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Lucidasans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  <a:p>
            <a:pPr lvl="4" marL="2158920" indent="-215640">
              <a:lnSpc>
                <a:spcPct val="9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Lucidasans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  <a:p>
            <a:pPr lvl="5" marL="215892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Lucidasans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  <a:p>
            <a:pPr lvl="6" marL="2158920" indent="-215640">
              <a:lnSpc>
                <a:spcPct val="9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Lucidasans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Lucida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04800" y="2800440"/>
            <a:ext cx="887112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Lucidasans"/>
                <a:ea typeface="Bitstream Vera Sans"/>
              </a:rPr>
              <a:t>Steve 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Lucidasans"/>
                <a:ea typeface="Bitstream Vera Sans"/>
              </a:rPr>
              <a:t>Lawrence Livermore National Labora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Lucidasans"/>
                <a:ea typeface="Bitstream Vera Sans"/>
              </a:rPr>
              <a:t>wi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Lucidasans"/>
                <a:ea typeface="Bitstream Vera Sans"/>
              </a:rPr>
              <a:t>Wil van Breugel, Wim de Vries, Adam Stanford (LLN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Lucidasans"/>
                <a:ea typeface="Bitstream Vera Sans"/>
              </a:rPr>
              <a:t>Arjun Dey, Buell Jannuzi (NOA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736560" y="798480"/>
            <a:ext cx="860904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6e64c"/>
                </a:solidFill>
                <a:latin typeface="Arial"/>
                <a:ea typeface="Bitstream Vera Sans"/>
              </a:rPr>
              <a:t>High Redshift Radio Galaxies</a:t>
            </a:r>
            <a:br>
              <a:rPr sz="4000"/>
            </a:br>
            <a:r>
              <a:rPr b="1" lang="en-GB" sz="4000" spc="-1" strike="noStrike">
                <a:solidFill>
                  <a:srgbClr val="e6e64c"/>
                </a:solidFill>
                <a:latin typeface="Arial"/>
                <a:ea typeface="Bitstream Vera Sans"/>
              </a:rPr>
              <a:t>in the NDWFS Bo</a:t>
            </a:r>
            <a:r>
              <a:rPr b="1" lang="en-GB" sz="4000" spc="-1" strike="noStrike">
                <a:solidFill>
                  <a:srgbClr val="e6e64c"/>
                </a:solidFill>
                <a:latin typeface="Arial"/>
                <a:ea typeface="Arial"/>
              </a:rPr>
              <a:t>ö</a:t>
            </a:r>
            <a:r>
              <a:rPr b="1" lang="en-GB" sz="4000" spc="-1" strike="noStrike">
                <a:solidFill>
                  <a:srgbClr val="e6e64c"/>
                </a:solidFill>
                <a:latin typeface="Arial"/>
                <a:ea typeface="Bitstream Vera Sans"/>
              </a:rPr>
              <a:t>tes F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47680" y="6575400"/>
            <a:ext cx="914400" cy="8049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013680" y="6578640"/>
            <a:ext cx="804960" cy="7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6560" y="309600"/>
            <a:ext cx="86090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Bitstream Vera Sans"/>
              </a:rPr>
              <a:t>HzRGs in Bo</a:t>
            </a: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Arial"/>
              </a:rPr>
              <a:t>ö</a:t>
            </a: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Bitstream Vera Sans"/>
              </a:rPr>
              <a:t>tes – Steve Croft, LLNL (croft4@llnl.g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2480" y="140076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Bitstream Vera Sans"/>
              </a:rPr>
              <a:t>HzRGs tend to be massive, early-forming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Efficient method to find them is to look for compact, steep radio spectrum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NDWFS / deep radio provide an opportunity to investigate new region of paramete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258080"/>
            <a:ext cx="87184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Look for unidentified compact radio sources in NDWFS (16/65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2/16 have α &gt; 0.1 (inver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9/16 have α ~ -0.7 (norm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4/16 have α ~ -0.9 (stee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1/16 is ultra-steep spectrum (α = -1.4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36560" y="309600"/>
            <a:ext cx="86090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Bitstream Vera Sans"/>
              </a:rPr>
              <a:t>HzRGs in Bo</a:t>
            </a: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Arial"/>
              </a:rPr>
              <a:t>ö</a:t>
            </a: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Bitstream Vera Sans"/>
              </a:rPr>
              <a:t>tes – Steve Croft, LLNL (croft4@llnl.g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7480" y="831960"/>
            <a:ext cx="2457360" cy="4676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19240" y="927000"/>
            <a:ext cx="690912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</a:rPr>
              <a:t>2/5 un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</a:rPr>
              <a:t>3/5 faint fuzzies, similar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</a:rPr>
              <a:t>B2 0902+343 @ z = 3.3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</a:rPr>
              <a:t>(van Breugel et al.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14680" y="3595680"/>
            <a:ext cx="4572000" cy="3529080"/>
            <a:chOff x="2614680" y="3595680"/>
            <a:chExt cx="4572000" cy="352908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2614680" y="3595680"/>
              <a:ext cx="457200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081240" y="3611520"/>
              <a:ext cx="2743200" cy="6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ff"/>
                  </a:solidFill>
                  <a:latin typeface="Lucidasans"/>
                </a:rPr>
                <a:t>K</a:t>
              </a:r>
              <a:r>
                <a:rPr b="0" i="1" lang="en-GB" sz="2000" spc="-1" strike="noStrike" baseline="-33000">
                  <a:solidFill>
                    <a:srgbClr val="0000ff"/>
                  </a:solidFill>
                  <a:latin typeface="Lucidasans"/>
                </a:rPr>
                <a:t>s </a:t>
              </a:r>
              <a:r>
                <a:rPr b="0" lang="en-GB" sz="2000" spc="-1" strike="noStrike">
                  <a:solidFill>
                    <a:srgbClr val="0000ff"/>
                  </a:solidFill>
                  <a:latin typeface="Lucidasans"/>
                </a:rPr>
                <a:t>= 21.38 </a:t>
              </a:r>
              <a:r>
                <a:rPr b="0" lang="en-GB" sz="2000" spc="-1" strike="noStrike">
                  <a:solidFill>
                    <a:srgbClr val="0000ff"/>
                  </a:solidFill>
                  <a:latin typeface="Lucidasans"/>
                  <a:ea typeface="Lucidasans"/>
                </a:rPr>
                <a:t>±</a:t>
              </a:r>
              <a:r>
                <a:rPr b="0" lang="en-GB" sz="2000" spc="-1" strike="noStrike">
                  <a:solidFill>
                    <a:srgbClr val="0000ff"/>
                  </a:solidFill>
                  <a:latin typeface="Lucidasans"/>
                </a:rPr>
                <a:t> 0.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86360" y="5900760"/>
              <a:ext cx="738000" cy="1440"/>
            </a:xfrm>
            <a:prstGeom prst="line">
              <a:avLst/>
            </a:prstGeom>
            <a:ln w="367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29360" y="5502240"/>
              <a:ext cx="49500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sans"/>
                </a:rPr>
                <a:t>5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318360" y="2751120"/>
            <a:ext cx="3644640" cy="3684600"/>
            <a:chOff x="6318360" y="2751120"/>
            <a:chExt cx="3644640" cy="368460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6318360" y="2751120"/>
              <a:ext cx="3644640" cy="36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445080" y="2857680"/>
              <a:ext cx="3200400" cy="2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Lucidasans"/>
                </a:rPr>
                <a:t>B2 0902+343 NIRC </a:t>
              </a:r>
              <a:r>
                <a:rPr b="0" i="1" lang="en-GB" sz="2000" spc="-1" strike="noStrike">
                  <a:solidFill>
                    <a:srgbClr val="0000ff"/>
                  </a:solidFill>
                  <a:latin typeface="Lucidasans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99360" y="5365800"/>
              <a:ext cx="1457280" cy="1440"/>
            </a:xfrm>
            <a:prstGeom prst="line">
              <a:avLst/>
            </a:prstGeom>
            <a:ln w="367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81840" y="4927680"/>
              <a:ext cx="4953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Lucidasans"/>
                </a:rPr>
                <a:t>5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36560" y="309600"/>
            <a:ext cx="86090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Bitstream Vera Sans"/>
              </a:rPr>
              <a:t>HzRGs in Bo</a:t>
            </a: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Arial"/>
              </a:rPr>
              <a:t>ö</a:t>
            </a:r>
            <a:r>
              <a:rPr b="1" lang="en-GB" sz="2000" spc="-1" strike="noStrike">
                <a:solidFill>
                  <a:srgbClr val="e6e64c"/>
                </a:solidFill>
                <a:latin typeface="Arial"/>
                <a:ea typeface="Bitstream Vera Sans"/>
              </a:rPr>
              <a:t>tes – Steve Croft, LLNL (croft4@llnl.g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82040"/>
            <a:ext cx="5943600" cy="40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Many faint SS sources are already ID'd in NDWFS (distant starburst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3/5 SS objects observed are faint, fuzzy, potential HzRGs (observed in restframe </a:t>
            </a:r>
            <a:r>
              <a:rPr b="0" i="1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V </a:t>
            </a: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buClr>
                <a:srgbClr val="e6e64c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Lucidasans"/>
                <a:ea typeface="Lucidasans"/>
              </a:rPr>
              <a:t>More detailed study should yield new insights into the mJy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807160" y="3065400"/>
            <a:ext cx="4010040" cy="3805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721720" y="3652920"/>
            <a:ext cx="914400" cy="457200"/>
          </a:xfrm>
          <a:prstGeom prst="ellipse">
            <a:avLst/>
          </a:prstGeom>
          <a:noFill/>
          <a:ln w="73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19840" y="1992240"/>
            <a:ext cx="395604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Lucidasans"/>
              </a:rPr>
              <a:t>De Breuck et al. 2002 </a:t>
            </a:r>
            <a:r>
              <a:rPr b="0" i="1" lang="en-GB" sz="2000" spc="-1" strike="noStrike">
                <a:solidFill>
                  <a:srgbClr val="e6e6e6"/>
                </a:solidFill>
                <a:latin typeface="Lucidasans"/>
              </a:rPr>
              <a:t>K-z</a:t>
            </a:r>
            <a:r>
              <a:rPr b="0" lang="en-GB" sz="2000" spc="-1" strike="noStrike">
                <a:solidFill>
                  <a:srgbClr val="e6e6e6"/>
                </a:solidFill>
                <a:latin typeface="Lucidasans"/>
              </a:rPr>
              <a:t> diagram; dotted lines are parameter space we exp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