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137D-27A7-430C-A8E4-C0191E5D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0C4-F3B7-410C-9AF2-7DB1414A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1A9-6F9D-4C01-9E23-A1DC9DF5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0CD-1679-4CE6-96B6-5A5737C3A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244-36C5-49E0-8A0C-E7FEAFE2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53AE-179D-4659-B029-6D30EFDD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8A2-0234-4FC8-A6F2-773BBE6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7E97-7B45-4B90-BADF-3346CE7F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6A2D-F02A-4610-BB52-74152E24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648-51E5-4634-A04D-61AE70EC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44A-FE42-488B-8A99-7EC3F26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2EB2-12F1-4781-8702-7443B2C3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8CEC-972E-4545-B0D6-5256155EC0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ep Chandra image in the B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 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0481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unxian W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ohns Hopkins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7864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r in stacked images with effective exposure time of 11.2 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ft: all Ly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mit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ight: Ly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mitter with Ly 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EW &gt; 240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057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Lyman-α to X-ray rat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90960" y="13716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dividual Lyman-α emitters are consistent with some but not all Type-II Q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composite Ly-α to X-ray ratio strongly rules out a large fraction of AGN in the Ly-α sam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5589720" cy="4983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71600" y="627696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igure from Wang et al 2004, ApJ L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Keck/LRIS spectrum of LALA “Boomer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85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omposite Ly-α Galaxy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9040" y="1371600"/>
            <a:ext cx="213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osite LRIS spectrum of LALA galax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 sign of AGN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Dawson et al 2004, in p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23088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of 101 L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mitters were detected in X-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4.8% of them could be AGNs based on their average L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X-ray flux rat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vidence of AGN feature was detected in the optical spectra either (Dawson et a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angeeta Malhotra, James Rhoads (STS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ichael Brown, Arjun Dey, Buell Jannuzi (NOA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eve Dawson, Hy Spinrad (UC Berke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imothy Heckman, Colin Norman (JH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aniel Stern (CalTe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lenn Tiede (BGS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olo Tozzi (IN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72 ks Chandra exposure on LALA B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 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327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deepest Chandra exposures on extra galactic sky, only 2 Ms CDF-N and 1 Ms CDF-S are substantially d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lorsmooth4" descr=""/>
          <p:cNvPicPr/>
          <p:nvPr/>
        </p:nvPicPr>
        <p:blipFill>
          <a:blip r:embed="rId1"/>
          <a:stretch/>
        </p:blipFill>
        <p:spPr>
          <a:xfrm>
            <a:off x="3962520" y="1371600"/>
            <a:ext cx="49528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4 ks Chandra exposure on LALA Cetus f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s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50 X-ray sources detected (346 in 1 Ms CDF-S, 503 in 2 Ms CDF-N), mostly are extragalactic sources harboring super massive black ho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NDWFS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zh-CN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, R, 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and LALA 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V, z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and images, optical counterparts have been found for 90% of the X-ray sources in the B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es fiel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round 10 R and bluer bands nondetected sources with soft X-ray colors are candidate z &gt;5 AG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pectroscopic identifications are on-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8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1920"/>
            <a:ext cx="78483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solves &gt;70% of 2-10 keV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ariation in X-ray source count, due to large scal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ang et al. 2004, A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68580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 Chandra imaging on high redshift Ly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itte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 equivalent widths of LALA Ly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mit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edian EW ~ 240Å (Malhotra &amp; Rhoads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ellar populations are expected to produce peak equivalent widths 100Å&lt; EW</a:t>
            </a:r>
            <a:r>
              <a:rPr b="0" lang="zh-CN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&lt;200Å (Charlot &amp; Fall 199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ellar populations with high proportions of young, massive stars (Malhotra &amp;Rhoads 2002) can explain the larger equivalent widt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5040"/>
            <a:ext cx="7543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high EWs can also be reproduced by active galactic nuclei, most likely type 2 AG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road-lined (type I) AGNs are ruled out because we see no evidence of broad emission lines from either narrow-band imaging or spectros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y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line luminosities comparable to those of Type II Q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ould be Chandra detectable if they are similar type II Q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656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2004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ne of 101 imaged Ly</a:t>
            </a:r>
            <a:r>
              <a:rPr b="0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emitters were detected in X-ray individ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609480"/>
            <a:ext cx="470844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01:49:20Z</dcterms:created>
  <dc:creator>hope</dc:creator>
  <dc:description/>
  <dc:language>en-US</dc:language>
  <cp:lastModifiedBy>hope</cp:lastModifiedBy>
  <dcterms:modified xsi:type="dcterms:W3CDTF">2004-05-29T15:44:23Z</dcterms:modified>
  <cp:revision>67</cp:revision>
  <dc:subject/>
  <dc:title>PowerPoint 演示文稿</dc:title>
</cp:coreProperties>
</file>