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D8BB-9BF0-4016-BE50-E6074EA4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E782-73AE-4CA0-9403-43250843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82B4-6A4E-4A18-9C43-00A909DD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AA7-3CD6-4EED-ABD9-5675BA41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0FEB-D361-4831-B877-FF6B8337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8317-CF24-47A4-8D8E-A6DFBF20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FBC5-9846-456F-B81C-DF3A0F61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042A-D96C-4796-8295-FEF24810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A60A-7C8D-4CD8-959A-1CCFD677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04F3-E300-4719-B45E-B8CE894E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7B34-3FD2-4DA4-9972-A038D338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6422-A009-449D-8B5D-37BFAD2F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5AEC-251E-4512-AE11-FE66A3EDE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15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cing the Accretion History of the Universe by stacking X-rays from  Red Galaxies in the NDWF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3809520"/>
            <a:ext cx="84582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e Brand, NOAO, Tucs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Dey, B. Jannuzi, M. Brown, J. Najita, C. Kochanek, C. Watson, D. Fabricant, G. Fazio, W. Forman, P. Green, C. Jones, A. Kenter, S. Murray, A. Vikhlinin, B. McNamara, J. Shields, M. Riek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34800" y="5927760"/>
            <a:ext cx="32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S, Denver, June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mber 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11414" t="30885" r="12484" b="4410"/>
          <a:stretch/>
        </p:blipFill>
        <p:spPr>
          <a:xfrm>
            <a:off x="5958000" y="2209680"/>
            <a:ext cx="3186000" cy="3505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rcRect l="10673" t="30928" r="11952" b="4124"/>
          <a:stretch/>
        </p:blipFill>
        <p:spPr>
          <a:xfrm>
            <a:off x="3048120" y="2209680"/>
            <a:ext cx="3227400" cy="3505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rcRect l="9515" t="29414" r="8681" b="2942"/>
          <a:stretch/>
        </p:blipFill>
        <p:spPr>
          <a:xfrm>
            <a:off x="0" y="2209680"/>
            <a:ext cx="3276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u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10113" t="29167" r="12586" b="4167"/>
          <a:stretch/>
        </p:blipFill>
        <p:spPr>
          <a:xfrm>
            <a:off x="6004080" y="2362320"/>
            <a:ext cx="3139920" cy="3504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rcRect l="9112" t="28172" r="10706" b="4224"/>
          <a:stretch/>
        </p:blipFill>
        <p:spPr>
          <a:xfrm>
            <a:off x="3048120" y="2362320"/>
            <a:ext cx="3213000" cy="3504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rcRect l="9112" t="28172" r="8885" b="4224"/>
          <a:stretch/>
        </p:blipFill>
        <p:spPr>
          <a:xfrm>
            <a:off x="0" y="2362320"/>
            <a:ext cx="3286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rcRect l="10414" t="29231" r="11947" b="4618"/>
          <a:stretch/>
        </p:blipFill>
        <p:spPr>
          <a:xfrm>
            <a:off x="5964120" y="2362320"/>
            <a:ext cx="3179880" cy="3504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rcRect l="9955" t="29231" r="12401" b="4618"/>
          <a:stretch/>
        </p:blipFill>
        <p:spPr>
          <a:xfrm>
            <a:off x="2971800" y="2362320"/>
            <a:ext cx="3179880" cy="3504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rcRect l="9955" t="29231" r="12401" b="4618"/>
          <a:stretch/>
        </p:blipFill>
        <p:spPr>
          <a:xfrm>
            <a:off x="0" y="2362320"/>
            <a:ext cx="31798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DWFS / XB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Ö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5883" t="40152" r="18590" b="10606"/>
          <a:stretch/>
        </p:blipFill>
        <p:spPr>
          <a:xfrm>
            <a:off x="1523880" y="1459080"/>
            <a:ext cx="6400800" cy="5398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62720" y="1905120"/>
            <a:ext cx="1904760" cy="137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cking analysis of X-rays from optically selected galaxies to determine mean X-ray properties and how this evolv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 field / deep multi-band optical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N / star 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DWFS red galaxy popula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rown et al. 2003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2209680"/>
            <a:ext cx="769608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316 red galaxies in 1.4 de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gion selected by model SED fitting to photometric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metric redshifts, z= 0.3-0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evolution corrected absolute magnitude distribution over all redshifts (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-20.5) -&gt; tracing same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acked X-ray im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10784" t="30305" r="8825" b="4546"/>
          <a:stretch/>
        </p:blipFill>
        <p:spPr>
          <a:xfrm>
            <a:off x="0" y="1905120"/>
            <a:ext cx="3778200" cy="3962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rcRect l="10673" t="30928" r="10618" b="5155"/>
          <a:stretch/>
        </p:blipFill>
        <p:spPr>
          <a:xfrm>
            <a:off x="5372280" y="1981080"/>
            <a:ext cx="3771720" cy="3962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rcRect l="11062" t="29915" r="10414" b="5130"/>
          <a:stretch/>
        </p:blipFill>
        <p:spPr>
          <a:xfrm>
            <a:off x="2895480" y="2971800"/>
            <a:ext cx="3630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olution of X-ray Luminosity with Red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0877" t="32775" r="11919" b="5040"/>
          <a:stretch/>
        </p:blipFill>
        <p:spPr>
          <a:xfrm>
            <a:off x="1905120" y="1371600"/>
            <a:ext cx="5263920" cy="5486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623000" y="5562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8520" y="373392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66120" y="3649680"/>
            <a:ext cx="11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409720" y="3886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562360" y="57913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39625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981080"/>
            <a:ext cx="883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ll 9 de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&gt; ~ 7 x number of objects -&gt; better number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er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population into sub-pop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X-ray spec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modality in number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ing of X-rays in different optical popul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GN / Star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wavelength data - deep radio / FIR - star formation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ction radius / off-axis dis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11266" t="25000" r="7616" b="4346"/>
          <a:stretch/>
        </p:blipFill>
        <p:spPr>
          <a:xfrm>
            <a:off x="0" y="1676520"/>
            <a:ext cx="4724280" cy="4952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rcRect l="10895" t="26317" r="7379" b="5262"/>
          <a:stretch/>
        </p:blipFill>
        <p:spPr>
          <a:xfrm>
            <a:off x="4572000" y="1676520"/>
            <a:ext cx="4572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280" y="1981080"/>
          <a:ext cx="8763120" cy="4442040"/>
        </p:xfrm>
        <a:graphic>
          <a:graphicData uri="http://schemas.openxmlformats.org/drawingml/2006/table">
            <a:tbl>
              <a:tblPr/>
              <a:tblGrid>
                <a:gridCol w="947880"/>
                <a:gridCol w="1422360"/>
                <a:gridCol w="1058760"/>
                <a:gridCol w="1371600"/>
                <a:gridCol w="1981440"/>
                <a:gridCol w="1981080"/>
              </a:tblGrid>
              <a:tr h="1072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shi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. galax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-ray Counts (bkg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-ray Flux (bkg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ergs cm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-ray Luminosi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ergs s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-10k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-2k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10k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 (26.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 (10.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 (16.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7±0.23 (0.5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4±0.08 (0.0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0±0.43 (0.8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2 ± 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8 ± 0.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5 ± 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-0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-10k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-2k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10k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 (32.2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 (13.2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 (19.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3±0.17 (0.5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7±0.05 (0.0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2±0.32 (0.7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± 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6 ± 0.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4 ± 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-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-10k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-2k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10k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 (30.7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 (12.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(18.2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9±0.19 (0.6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8±0.07 (0.1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7±0.34 (0.9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2 ± 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93 ± 0.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1 ± 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00:09:48Z</dcterms:created>
  <dc:creator>Katherine Brand</dc:creator>
  <dc:description/>
  <dc:language>en-US</dc:language>
  <cp:lastModifiedBy>Katherine Brand</cp:lastModifiedBy>
  <dcterms:modified xsi:type="dcterms:W3CDTF">2004-05-31T22:06:53Z</dcterms:modified>
  <cp:revision>12</cp:revision>
  <dc:subject/>
  <dc:title>Tracing the Accretion History of the Universe using X-rays from the Red Galaxy Population in the NDWFS </dc:title>
</cp:coreProperties>
</file>