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9B56-ADC6-4830-9EB9-4187D6B61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: Starbursts are luminous radio sources too;  plan was to obtain deep 20cm maps of Bootes field with improved spatial resolution (theta ~ 1.5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curately tie MIPS sources to optical counterparts &amp; precisely place MIPS source on IRS sl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quarter of the radio point-source/compact population has either a very faint optical counterpart or no counter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quarter of the radio point-source/compact population has either a very faint optical counterpart or no counter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4F3D-5192-454C-BF03-8DF27CE4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52F-0D5F-46C7-A02C-AF292AE5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52F-062D-4B0D-8084-26E8D1C0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2C6-C834-4A7A-BD4D-E7A26F52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C7D-E021-4D4F-8458-5ABBE6CE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6B0-6323-4FC4-B1A1-165C9592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E07-2654-4740-BFDB-F71693E7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D82-BAF1-4CBC-A81A-9828FBD0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794-4B61-4BF0-983E-1413C08E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D6E-CBED-4D52-886A-AB375E9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D38-EAC5-4DE1-842E-4CBB7E3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555-88A1-4F3F-86D6-53F574B0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5915-0347-46B7-ACAC-E72C58EE7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ootes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25780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J. L. Higdon, S. J. U. Higdon, D. Weedman, J. Houck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(Corne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. T. Soifer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(Caltech),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. Jannuzi, A. Dey, M. Brown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(NOA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E. Le Floc’h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&amp;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M. Rieke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(Arizon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Nature Of Optically “Invisible” Radio Sources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 The NOAO Deep Wide Field In Bo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0" y="1143000"/>
            <a:ext cx="6629400" cy="4800600"/>
            <a:chOff x="0" y="1143000"/>
            <a:chExt cx="6629400" cy="4800600"/>
          </a:xfrm>
        </p:grpSpPr>
        <p:grpSp>
          <p:nvGrpSpPr>
            <p:cNvPr id="139" name=""/>
            <p:cNvGrpSpPr/>
            <p:nvPr/>
          </p:nvGrpSpPr>
          <p:grpSpPr>
            <a:xfrm>
              <a:off x="0" y="1143000"/>
              <a:ext cx="6629400" cy="4800600"/>
              <a:chOff x="0" y="1143000"/>
              <a:chExt cx="6629400" cy="48006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0" y="1143000"/>
                <a:ext cx="6629400" cy="4800600"/>
                <a:chOff x="0" y="1143000"/>
                <a:chExt cx="6629400" cy="480060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0" y="1143000"/>
                  <a:ext cx="6629400" cy="4800600"/>
                  <a:chOff x="0" y="1143000"/>
                  <a:chExt cx="6629400" cy="4800600"/>
                </a:xfrm>
              </p:grpSpPr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0" y="1143000"/>
                    <a:ext cx="6629400" cy="4800600"/>
                    <a:chOff x="0" y="1143000"/>
                    <a:chExt cx="6629400" cy="4800600"/>
                  </a:xfrm>
                </p:grpSpPr>
                <p:grpSp>
                  <p:nvGrpSpPr>
                    <p:cNvPr id="143" name=""/>
                    <p:cNvGrpSpPr/>
                    <p:nvPr/>
                  </p:nvGrpSpPr>
                  <p:grpSpPr>
                    <a:xfrm>
                      <a:off x="0" y="1143000"/>
                      <a:ext cx="6629400" cy="4800600"/>
                      <a:chOff x="0" y="1143000"/>
                      <a:chExt cx="6629400" cy="4800600"/>
                    </a:xfrm>
                  </p:grpSpPr>
                  <p:grpSp>
                    <p:nvGrpSpPr>
                      <p:cNvPr id="144" name=""/>
                      <p:cNvGrpSpPr/>
                      <p:nvPr/>
                    </p:nvGrpSpPr>
                    <p:grpSpPr>
                      <a:xfrm>
                        <a:off x="0" y="1143000"/>
                        <a:ext cx="6629400" cy="4800600"/>
                        <a:chOff x="0" y="1143000"/>
                        <a:chExt cx="6629400" cy="4800600"/>
                      </a:xfrm>
                    </p:grpSpPr>
                    <p:grpSp>
                      <p:nvGrpSpPr>
                        <p:cNvPr id="145" name=""/>
                        <p:cNvGrpSpPr/>
                        <p:nvPr/>
                      </p:nvGrpSpPr>
                      <p:grpSpPr>
                        <a:xfrm>
                          <a:off x="0" y="1143000"/>
                          <a:ext cx="6629400" cy="4800600"/>
                          <a:chOff x="0" y="1143000"/>
                          <a:chExt cx="6629400" cy="4800600"/>
                        </a:xfrm>
                      </p:grpSpPr>
                      <p:pic>
                        <p:nvPicPr>
                          <p:cNvPr id="146" name="figure33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0" y="1143000"/>
                            <a:ext cx="6629400" cy="48006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  <p:sp>
                        <p:nvSpPr>
                          <p:cNvPr id="147" name=""/>
                          <p:cNvSpPr/>
                          <p:nvPr/>
                        </p:nvSpPr>
                        <p:spPr>
                          <a:xfrm>
                            <a:off x="3569400" y="3439800"/>
                            <a:ext cx="218520" cy="215280"/>
                          </a:xfrm>
                          <a:prstGeom prst="triangle">
                            <a:avLst>
                              <a:gd name="adj" fmla="val 50000"/>
                            </a:avLst>
                          </a:prstGeom>
                          <a:solidFill>
                            <a:srgbClr val="0000ff"/>
                          </a:solidFill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5200" bIns="252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8" name=""/>
                        <p:cNvSpPr/>
                        <p:nvPr/>
                      </p:nvSpPr>
                      <p:spPr>
                        <a:xfrm>
                          <a:off x="1092600" y="2291040"/>
                          <a:ext cx="5172120" cy="0"/>
                        </a:xfrm>
                        <a:prstGeom prst="line">
                          <a:avLst/>
                        </a:prstGeom>
                        <a:ln cap="rnd" w="9360">
                          <a:solidFill>
                            <a:srgbClr val="ff0000"/>
                          </a:solidFill>
                          <a:custDash>
                            <a:ds d="100000" sp="1000"/>
                          </a:custDash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1092600" y="2793960"/>
                          <a:ext cx="5172120" cy="0"/>
                        </a:xfrm>
                        <a:prstGeom prst="line">
                          <a:avLst/>
                        </a:prstGeom>
                        <a:ln cap="rnd" w="9360">
                          <a:solidFill>
                            <a:srgbClr val="ff0000"/>
                          </a:solidFill>
                          <a:custDash>
                            <a:ds d="100000" sp="1000"/>
                          </a:custDash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1092600" y="3583440"/>
                          <a:ext cx="5172120" cy="0"/>
                        </a:xfrm>
                        <a:prstGeom prst="line">
                          <a:avLst/>
                        </a:prstGeom>
                        <a:ln cap="rnd" w="9360">
                          <a:solidFill>
                            <a:srgbClr val="0000ff"/>
                          </a:solidFill>
                          <a:custDash>
                            <a:ds d="100000" sp="1000"/>
                          </a:custDash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4152600" y="3583440"/>
                          <a:ext cx="0" cy="215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3205080" y="3583440"/>
                          <a:ext cx="0" cy="215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4007880" y="1932480"/>
                        <a:ext cx="43668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z = 1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4590720" y="2004120"/>
                        <a:ext cx="2448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5009400" y="2289960"/>
                        <a:ext cx="2448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5319000" y="2578320"/>
                        <a:ext cx="2448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5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5446800" y="2506680"/>
                        <a:ext cx="2448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6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5538600" y="2435040"/>
                        <a:ext cx="24480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7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2187000" y="3712320"/>
                      <a:ext cx="43668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=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696400" y="3870720"/>
                      <a:ext cx="244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987280" y="4086000"/>
                      <a:ext cx="244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279240" y="4142880"/>
                      <a:ext cx="244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497760" y="4158000"/>
                      <a:ext cx="24480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4" name=""/>
                  <p:cNvSpPr/>
                  <p:nvPr/>
                </p:nvSpPr>
                <p:spPr>
                  <a:xfrm>
                    <a:off x="3645000" y="408600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789000" y="4014000"/>
                  <a:ext cx="244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5228640" y="249156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763720" y="171684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LI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95560" y="329652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6560" y="4875480"/>
              <a:ext cx="61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c2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019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UBA Observations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/mid-IR/Sub-mm  2-Colo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2800" y="1752480"/>
            <a:ext cx="2239560" cy="3501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MIPS detections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 easily detected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UBA if z &gt; 0.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 non-det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vast majority)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be detecte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 &gt; 5 for an AGN 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 non-det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not be detecte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D is 3c273-like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redshi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82880" y="1339920"/>
            <a:ext cx="23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b-mm Flux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0920" y="45720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-ray Emission From OI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41600" y="1344600"/>
            <a:ext cx="5840280" cy="150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OIRSs within Chandra/LALA field  (Wang et al.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are detected at 2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are detected in X-rays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.5-2 ke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&lt;  1.5 x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g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1920" y="3067200"/>
            <a:ext cx="6863400" cy="1228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ightly surpris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radio loud AGN are luminous X-ray sources (cf., Cappi et al. 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X-rays can be blocked by high gas columns 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b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re-emitted in the IR by du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880" y="4524480"/>
            <a:ext cx="8468280" cy="11912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sible Solu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We are not using the right SED!  Maybe I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n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uminous, not radi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umino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I.e., z &gt; 5 dust poor starburst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X-ray quenching in dust poor IS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cally “Invisible” X-ray 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2280" y="1143000"/>
            <a:ext cx="5791320" cy="4292640"/>
            <a:chOff x="152280" y="1143000"/>
            <a:chExt cx="5791320" cy="4292640"/>
          </a:xfrm>
        </p:grpSpPr>
        <p:grpSp>
          <p:nvGrpSpPr>
            <p:cNvPr id="179" name=""/>
            <p:cNvGrpSpPr/>
            <p:nvPr/>
          </p:nvGrpSpPr>
          <p:grpSpPr>
            <a:xfrm>
              <a:off x="152280" y="1143000"/>
              <a:ext cx="5791320" cy="4292640"/>
              <a:chOff x="152280" y="1143000"/>
              <a:chExt cx="5791320" cy="4292640"/>
            </a:xfrm>
          </p:grpSpPr>
          <p:pic>
            <p:nvPicPr>
              <p:cNvPr id="180" name="lala_irx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280" y="1143000"/>
                <a:ext cx="5791320" cy="429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157040" y="436644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96800" y="431856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635840" y="422280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75240" y="484524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114640" y="422280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593080" y="455796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32480" y="474948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071880" y="470160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25760" y="470160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29120" y="417492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68520" y="4701600"/>
                <a:ext cx="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93600" y="139680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rbur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3240" y="3530520"/>
              <a:ext cx="68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G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867280" y="698400"/>
            <a:ext cx="2971800" cy="1739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 Optically Invisible X-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Chandra/LALA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ang et al.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Detected at 2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Detected at 20 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786040"/>
            <a:ext cx="2987640" cy="20890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/19 :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.5-2 ke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0.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burst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/19: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.5-2 keV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 0.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N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eedman et al.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7760" y="5486400"/>
            <a:ext cx="5854680" cy="1008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ear to be two “Optically Invisible” popul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Radio &amp; mid-IR “quiet” X-ray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X-ray &amp; mid-IR “quiet” Radio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4647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838080"/>
            <a:ext cx="7772400" cy="32004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% of 20cm point-sources have no optical counter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&gt; 26 AB in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, &amp; I ma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cted by MIPS at 2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0.08 mJ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ppear to be z~2-3 ULI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(~75%) appear to be z~2-6 A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the 10 OIRSs in Chandra/LALA field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ed in soft X-rays (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.5-2 k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1.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g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8680" y="41148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495680"/>
            <a:ext cx="5105520" cy="19227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 dust-poor (e.g., BCD?) S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A 6cm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mm im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IR (IRAC 3.6 – 8.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properties of the O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85800" y="1143000"/>
            <a:ext cx="4876920" cy="4648320"/>
            <a:chOff x="685800" y="1143000"/>
            <a:chExt cx="4876920" cy="4648320"/>
          </a:xfrm>
        </p:grpSpPr>
        <p:pic>
          <p:nvPicPr>
            <p:cNvPr id="52" name="pilot_figure1" descr=""/>
            <p:cNvPicPr/>
            <p:nvPr/>
          </p:nvPicPr>
          <p:blipFill>
            <a:blip r:embed="rId1"/>
            <a:srcRect l="7944" t="1308" r="6948" b="1906"/>
            <a:stretch/>
          </p:blipFill>
          <p:spPr>
            <a:xfrm>
              <a:off x="685800" y="1143000"/>
              <a:ext cx="487692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872160" y="1456920"/>
              <a:ext cx="1235160" cy="11934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791320" y="1143000"/>
            <a:ext cx="3047760" cy="1554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 July 2003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configuration: 1.4” fw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-array pointings: ~0.6 de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5-hours/pointing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y/be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LA 20cm Pilo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20" y="5715000"/>
            <a:ext cx="444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ite circles: V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red squar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NDWF fie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yellow circl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 Chandra LALA survey (Wang et al.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3200400"/>
            <a:ext cx="3004920" cy="258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Detect 20cm continuum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 high-z starburst/AG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Improved positional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IRS followu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) Use 24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/ 20cm to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N dominated obje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3840" y="485640"/>
            <a:ext cx="381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pilot study is better than no study at all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Bob Be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call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adio Sources (OFR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600200"/>
            <a:ext cx="739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ep radio images routinely find a sizable fraction of point-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t have very faint optical counterparts … or none at 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Richards et al. (1999) &amp; Fomalont et al. 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20% have no optical counterpart to I &gt; 2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54960" y="4210200"/>
            <a:ext cx="4853160" cy="1557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cured Starbursts  z~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loud AGN  z = 3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luminosity AGN  z&lt;1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-resolved one-sided radio 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9800" y="365760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Origin of this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5867280"/>
            <a:ext cx="47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- Option 3) not likely – hosts are &gt;L* and should have I &lt; 2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cally Invisible Radio Sources (OIRSs) in Boo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80920" y="685800"/>
            <a:ext cx="7272360" cy="4543200"/>
            <a:chOff x="880920" y="685800"/>
            <a:chExt cx="7272360" cy="4543200"/>
          </a:xfrm>
        </p:grpSpPr>
        <p:pic>
          <p:nvPicPr>
            <p:cNvPr id="66" name="radopt275" descr=""/>
            <p:cNvPicPr/>
            <p:nvPr/>
          </p:nvPicPr>
          <p:blipFill>
            <a:blip r:embed="rId1"/>
            <a:stretch/>
          </p:blipFill>
          <p:spPr>
            <a:xfrm>
              <a:off x="880920" y="685800"/>
              <a:ext cx="2376360" cy="22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radopt278" descr=""/>
            <p:cNvPicPr/>
            <p:nvPr/>
          </p:nvPicPr>
          <p:blipFill>
            <a:blip r:embed="rId2"/>
            <a:stretch/>
          </p:blipFill>
          <p:spPr>
            <a:xfrm>
              <a:off x="3319200" y="685800"/>
              <a:ext cx="2376720" cy="22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radopt282" descr=""/>
            <p:cNvPicPr/>
            <p:nvPr/>
          </p:nvPicPr>
          <p:blipFill>
            <a:blip r:embed="rId3"/>
            <a:stretch/>
          </p:blipFill>
          <p:spPr>
            <a:xfrm>
              <a:off x="5757840" y="685800"/>
              <a:ext cx="2385720" cy="22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radopt305" descr=""/>
            <p:cNvPicPr/>
            <p:nvPr/>
          </p:nvPicPr>
          <p:blipFill>
            <a:blip r:embed="rId4"/>
            <a:stretch/>
          </p:blipFill>
          <p:spPr>
            <a:xfrm>
              <a:off x="880920" y="2971800"/>
              <a:ext cx="2376360" cy="22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radopt346" descr=""/>
            <p:cNvPicPr/>
            <p:nvPr/>
          </p:nvPicPr>
          <p:blipFill>
            <a:blip r:embed="rId5"/>
            <a:stretch/>
          </p:blipFill>
          <p:spPr>
            <a:xfrm>
              <a:off x="3319200" y="2971800"/>
              <a:ext cx="2376720" cy="22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radopt375" descr=""/>
            <p:cNvPicPr/>
            <p:nvPr/>
          </p:nvPicPr>
          <p:blipFill>
            <a:blip r:embed="rId6"/>
            <a:stretch/>
          </p:blipFill>
          <p:spPr>
            <a:xfrm>
              <a:off x="5757840" y="2971800"/>
              <a:ext cx="2395440" cy="22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1447920" y="5410080"/>
            <a:ext cx="6172200" cy="745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dio cri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  (1) point/v.compact  (2)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ea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/N &gt;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cal cri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 (1) no optical counterpart within R &lt; 3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23720" y="6094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s of OI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6800" y="1295280"/>
            <a:ext cx="5829840" cy="150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1  point-like radio sources in survey field  ( A ~ 0.6 de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(12%) have no optical counterpart in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, I ma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 (14%) have faint (e.g., I ~ 24) optical counterp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371680" y="3124080"/>
            <a:ext cx="3951000" cy="3125160"/>
            <a:chOff x="2371680" y="3124080"/>
            <a:chExt cx="3951000" cy="3125160"/>
          </a:xfrm>
        </p:grpSpPr>
        <p:grpSp>
          <p:nvGrpSpPr>
            <p:cNvPr id="76" name=""/>
            <p:cNvGrpSpPr/>
            <p:nvPr/>
          </p:nvGrpSpPr>
          <p:grpSpPr>
            <a:xfrm>
              <a:off x="2371680" y="3124080"/>
              <a:ext cx="3951000" cy="3125160"/>
              <a:chOff x="2371680" y="3124080"/>
              <a:chExt cx="3951000" cy="3125160"/>
            </a:xfrm>
          </p:grpSpPr>
          <p:pic>
            <p:nvPicPr>
              <p:cNvPr id="77" name="radio_histogram" descr=""/>
              <p:cNvPicPr/>
              <p:nvPr/>
            </p:nvPicPr>
            <p:blipFill>
              <a:blip r:embed="rId1"/>
              <a:stretch/>
            </p:blipFill>
            <p:spPr>
              <a:xfrm>
                <a:off x="2371680" y="3124080"/>
                <a:ext cx="3885480" cy="266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2636640" y="5765400"/>
                <a:ext cx="368604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0                 1.0                2.0                 3.0                 4.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0cm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(mJy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3824640" y="3200400"/>
              <a:ext cx="24318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S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0c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gt; = 0.49 mJ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: 76 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y  max: 4.0 mJ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cm/24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Detection Limits For Starbur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85720" y="1447920"/>
            <a:ext cx="4977000" cy="4190760"/>
            <a:chOff x="585720" y="1447920"/>
            <a:chExt cx="4977000" cy="4190760"/>
          </a:xfrm>
        </p:grpSpPr>
        <p:pic>
          <p:nvPicPr>
            <p:cNvPr id="82" name="fir_radio_sfr" descr=""/>
            <p:cNvPicPr/>
            <p:nvPr/>
          </p:nvPicPr>
          <p:blipFill>
            <a:blip r:embed="rId1">
              <a:lum contrast="54000"/>
            </a:blip>
            <a:srcRect l="0" t="0" r="0" b="952"/>
            <a:stretch/>
          </p:blipFill>
          <p:spPr>
            <a:xfrm>
              <a:off x="585720" y="1447920"/>
              <a:ext cx="497700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flipV="1">
              <a:off x="1929600" y="3709440"/>
              <a:ext cx="0" cy="199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236480" y="2378880"/>
              <a:ext cx="0" cy="199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025440" y="2911320"/>
              <a:ext cx="0" cy="199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025440" y="2778120"/>
              <a:ext cx="0" cy="199440"/>
            </a:xfrm>
            <a:prstGeom prst="line">
              <a:avLst/>
            </a:prstGeom>
            <a:ln w="64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294080" y="2378880"/>
              <a:ext cx="0" cy="199440"/>
            </a:xfrm>
            <a:prstGeom prst="line">
              <a:avLst/>
            </a:prstGeom>
            <a:ln w="64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929600" y="3376800"/>
              <a:ext cx="0" cy="199440"/>
            </a:xfrm>
            <a:prstGeom prst="line">
              <a:avLst/>
            </a:prstGeom>
            <a:ln w="648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562720" y="1650960"/>
            <a:ext cx="3352680" cy="1008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ny high-z starburst de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 the radio should be seen by MI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33520" y="2895480"/>
            <a:ext cx="266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burst SED templates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u et al. (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240" y="5486400"/>
            <a:ext cx="286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   MIPS 24 mm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VLA 20cm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648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-IR Counterparts of OI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66960" y="838080"/>
            <a:ext cx="7262280" cy="4540320"/>
            <a:chOff x="966960" y="838080"/>
            <a:chExt cx="7262280" cy="4540320"/>
          </a:xfrm>
        </p:grpSpPr>
        <p:pic>
          <p:nvPicPr>
            <p:cNvPr id="94" name="mipsrad275" descr=""/>
            <p:cNvPicPr/>
            <p:nvPr/>
          </p:nvPicPr>
          <p:blipFill>
            <a:blip r:embed="rId1"/>
            <a:stretch/>
          </p:blipFill>
          <p:spPr>
            <a:xfrm>
              <a:off x="966960" y="838080"/>
              <a:ext cx="2385720" cy="22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mipsrad278" descr=""/>
            <p:cNvPicPr/>
            <p:nvPr/>
          </p:nvPicPr>
          <p:blipFill>
            <a:blip r:embed="rId2"/>
            <a:stretch/>
          </p:blipFill>
          <p:spPr>
            <a:xfrm>
              <a:off x="3405240" y="838080"/>
              <a:ext cx="2376000" cy="22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mipsrad282" descr=""/>
            <p:cNvPicPr/>
            <p:nvPr/>
          </p:nvPicPr>
          <p:blipFill>
            <a:blip r:embed="rId3"/>
            <a:stretch/>
          </p:blipFill>
          <p:spPr>
            <a:xfrm>
              <a:off x="5843520" y="838080"/>
              <a:ext cx="2385720" cy="22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mipsrad305" descr=""/>
            <p:cNvPicPr/>
            <p:nvPr/>
          </p:nvPicPr>
          <p:blipFill>
            <a:blip r:embed="rId4"/>
            <a:stretch/>
          </p:blipFill>
          <p:spPr>
            <a:xfrm>
              <a:off x="966960" y="3124080"/>
              <a:ext cx="2385720" cy="22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mipsrad346" descr=""/>
            <p:cNvPicPr/>
            <p:nvPr/>
          </p:nvPicPr>
          <p:blipFill>
            <a:blip r:embed="rId5"/>
            <a:stretch/>
          </p:blipFill>
          <p:spPr>
            <a:xfrm>
              <a:off x="3405240" y="3124080"/>
              <a:ext cx="2385360" cy="22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mipsrad375" descr=""/>
            <p:cNvPicPr/>
            <p:nvPr/>
          </p:nvPicPr>
          <p:blipFill>
            <a:blip r:embed="rId6"/>
            <a:stretch/>
          </p:blipFill>
          <p:spPr>
            <a:xfrm>
              <a:off x="5843520" y="3124080"/>
              <a:ext cx="2376000" cy="22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"/>
          <p:cNvSpPr/>
          <p:nvPr/>
        </p:nvSpPr>
        <p:spPr>
          <a:xfrm>
            <a:off x="1951920" y="5562720"/>
            <a:ext cx="50576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a:   MIPS/VLA match if  R &lt; 4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4568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s of OIR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6120" y="1023840"/>
            <a:ext cx="6206400" cy="20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1  point-like radio sources in survey field  ( A ~ 0.6 de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(12%) have no optical counterpart in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R,I ma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 (14%) have faint (e.g., I ~ 24) optical counterparts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FR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228840"/>
            <a:ext cx="4924440" cy="23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(11%) of the 45 OIRSs have MIPS counterpar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 0.28 mJ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imit from stack of 40 OIRSs:  0.08 mJ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 (17%) of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F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have MIPS counter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med_mipstack4OIRS" descr=""/>
          <p:cNvPicPr/>
          <p:nvPr/>
        </p:nvPicPr>
        <p:blipFill>
          <a:blip r:embed="rId1"/>
          <a:stretch/>
        </p:blipFill>
        <p:spPr>
          <a:xfrm>
            <a:off x="6934320" y="3465360"/>
            <a:ext cx="1865160" cy="179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 flipV="1">
            <a:off x="6400800" y="4419360"/>
            <a:ext cx="6858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838080"/>
            <a:ext cx="6781680" cy="5166000"/>
            <a:chOff x="0" y="838080"/>
            <a:chExt cx="6781680" cy="5166000"/>
          </a:xfrm>
        </p:grpSpPr>
        <p:grpSp>
          <p:nvGrpSpPr>
            <p:cNvPr id="107" name=""/>
            <p:cNvGrpSpPr/>
            <p:nvPr/>
          </p:nvGrpSpPr>
          <p:grpSpPr>
            <a:xfrm>
              <a:off x="0" y="838080"/>
              <a:ext cx="6781680" cy="5166000"/>
              <a:chOff x="0" y="838080"/>
              <a:chExt cx="6781680" cy="516600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0" y="838080"/>
                <a:ext cx="6781680" cy="5166000"/>
                <a:chOff x="0" y="838080"/>
                <a:chExt cx="6781680" cy="516600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0" y="838080"/>
                  <a:ext cx="6781680" cy="5166000"/>
                  <a:chOff x="0" y="838080"/>
                  <a:chExt cx="6781680" cy="516600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0" y="838080"/>
                    <a:ext cx="6781680" cy="5166000"/>
                    <a:chOff x="0" y="838080"/>
                    <a:chExt cx="6781680" cy="5166000"/>
                  </a:xfrm>
                </p:grpSpPr>
                <p:grpSp>
                  <p:nvGrpSpPr>
                    <p:cNvPr id="111" name=""/>
                    <p:cNvGrpSpPr/>
                    <p:nvPr/>
                  </p:nvGrpSpPr>
                  <p:grpSpPr>
                    <a:xfrm>
                      <a:off x="0" y="838080"/>
                      <a:ext cx="6781680" cy="5166000"/>
                      <a:chOff x="0" y="838080"/>
                      <a:chExt cx="6781680" cy="5166000"/>
                    </a:xfrm>
                  </p:grpSpPr>
                  <p:grpSp>
                    <p:nvGrpSpPr>
                      <p:cNvPr id="112" name=""/>
                      <p:cNvGrpSpPr/>
                      <p:nvPr/>
                    </p:nvGrpSpPr>
                    <p:grpSpPr>
                      <a:xfrm>
                        <a:off x="0" y="838080"/>
                        <a:ext cx="6781680" cy="5166000"/>
                        <a:chOff x="0" y="838080"/>
                        <a:chExt cx="6781680" cy="5166000"/>
                      </a:xfrm>
                    </p:grpSpPr>
                    <p:pic>
                      <p:nvPicPr>
                        <p:cNvPr id="113" name="figure44" descr=""/>
                        <p:cNvPicPr/>
                        <p:nvPr/>
                      </p:nvPicPr>
                      <p:blipFill>
                        <a:blip r:embed="rId1"/>
                        <a:stretch/>
                      </p:blipFill>
                      <p:spPr>
                        <a:xfrm>
                          <a:off x="0" y="838080"/>
                          <a:ext cx="6781680" cy="5166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783880" y="3291840"/>
                          <a:ext cx="142560" cy="147600"/>
                        </a:xfrm>
                        <a:prstGeom prst="triangle">
                          <a:avLst>
                            <a:gd name="adj" fmla="val 50000"/>
                          </a:avLst>
                        </a:prstGeom>
                        <a:solidFill>
                          <a:srgbClr val="0000ff"/>
                        </a:solidFill>
                        <a:ln w="9360">
                          <a:solidFill>
                            <a:srgbClr val="ff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520" bIns="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5" name=""/>
                      <p:cNvSpPr/>
                      <p:nvPr/>
                    </p:nvSpPr>
                    <p:spPr>
                      <a:xfrm>
                        <a:off x="2855520" y="3439440"/>
                        <a:ext cx="0" cy="221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783880" y="2923200"/>
                      <a:ext cx="0" cy="221040"/>
                    </a:xfrm>
                    <a:prstGeom prst="line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" name=""/>
                  <p:cNvSpPr/>
                  <p:nvPr/>
                </p:nvSpPr>
                <p:spPr>
                  <a:xfrm>
                    <a:off x="1785240" y="224460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" name=""/>
                <p:cNvSpPr/>
                <p:nvPr/>
              </p:nvSpPr>
              <p:spPr>
                <a:xfrm>
                  <a:off x="1928160" y="2318400"/>
                  <a:ext cx="244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" name=""/>
                <p:cNvGrpSpPr/>
                <p:nvPr/>
              </p:nvGrpSpPr>
              <p:grpSpPr>
                <a:xfrm>
                  <a:off x="1697040" y="1375200"/>
                  <a:ext cx="4939200" cy="3562920"/>
                  <a:chOff x="1697040" y="1375200"/>
                  <a:chExt cx="4939200" cy="356292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4711320" y="1375200"/>
                    <a:ext cx="18511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LIRG: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SFR=3000 Mo/y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496840" y="3027600"/>
                    <a:ext cx="1139400" cy="48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GN/Seyfert 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gL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.4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 24-2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5436000" y="4104000"/>
                    <a:ext cx="1096560" cy="48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c27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ogL</a:t>
                    </a:r>
                    <a:r>
                      <a:rPr b="0" lang="en-US" sz="12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1.4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= 24-2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285000" y="4234320"/>
                    <a:ext cx="436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 = 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2768400" y="445572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2553480" y="461988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2356920" y="469188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697040" y="218736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2053800" y="224424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2268000" y="196452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2499840" y="1654560"/>
                    <a:ext cx="2448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2856600" y="1582200"/>
                    <a:ext cx="4366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 = 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2" name=""/>
              <p:cNvSpPr/>
              <p:nvPr/>
            </p:nvSpPr>
            <p:spPr>
              <a:xfrm>
                <a:off x="2482200" y="46771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80800" y="43974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2624760" y="454500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o/midIR Color-Magnitud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5943600"/>
            <a:ext cx="365760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LIR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EDs  From Xu et al. (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c27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ED from 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64320" y="1447920"/>
            <a:ext cx="2327400" cy="3148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PS (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istent with z~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IR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0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-limits im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N domin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s at z &gt;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QSO-like they 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at z~5-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15:58:37Z</dcterms:created>
  <dc:creator>Tycho Brahe</dc:creator>
  <dc:description/>
  <dc:language>en-US</dc:language>
  <cp:lastModifiedBy>Tycho Brahe</cp:lastModifiedBy>
  <dcterms:modified xsi:type="dcterms:W3CDTF">2004-06-03T20:07:40Z</dcterms:modified>
  <cp:revision>96</cp:revision>
  <dc:subject/>
  <dc:title>PowerPoint Presentation</dc:title>
</cp:coreProperties>
</file>