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Palatino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6C7B-96A0-4FB9-A626-3A25F62C5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t is dN(&gt;n)/dn and then converted to 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ECF for this band and count rate, assuming index 1.7 and column 1e20. The ECF (0.5-2.0) is 1.168e-15 (abs) and 1.203e-15 (unab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ee the expected numbers of sources based on 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X-ray flux limit and the optical magnitude limit are a good match, we do find that the matches require reaching 24-25 (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I,R) magnitude to be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ed for time with Gemini and Keck for specific sources too faint for MM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apply for GO time as well as GTO time to get tempera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color image of the full surv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this is a plot of the detected sources, not the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are soft sources(0.5-2.0), blue are hard  sources (2-7) and green  total band sources (0.5-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w-up shows a region of about 2x2 ACIS-I fields. The smallest dots are about 2x2 arc seconds in siz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wavelet detects (CIAO Wavelet detect) and the size is the wavelet detect size for detection, not the extent of a source. In any individual ACIS field, the PSF increases away from the center so that larger detection cells are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A9E2-B499-4F82-ACF3-D57057184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35A4-4EF5-452B-A27E-0C53664C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66B7-B6A3-417B-A705-10857691B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B1FE-4CE6-419D-91C6-E959F0FEF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E669-A08F-43A7-B4F5-0DBEA14C4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135D-41D3-4FC9-9E5E-B94B05EB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C17B-E8D0-47E6-84EE-4C6D96ED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8DC2-75A8-44DE-BA28-88EAB141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1EB0-758F-4E06-A2DE-881A5DBB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F4D4-4899-46EA-B8AF-C941CC76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9757-F0B1-4658-A135-05A02E1E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76A2-EDCE-41BC-A3C0-AA744B1D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BE09-E0F6-4804-9A55-CD84F498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D567-0E7F-4458-BEC1-824E9D74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7860-7FBF-4DBF-B423-49A4711E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D037-6BC8-4B27-9A7E-1414D1AC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725C-16E2-41C6-B9A9-E99BA3F4C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5780-2360-4B0A-B0EC-73931870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C182-BABA-48BB-A53A-D943677E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F5AA-ECD5-4DC3-B89C-E6780102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FFC6-09C5-4646-AD87-6C1BDF4F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73CE-DBFC-40D0-8432-3A600F36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1835-BCF2-424E-814D-65D8D148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B151-AE35-416F-B8D4-5D066006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676E-1FAE-487A-81EA-F4847BF61E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5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Palatino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8986-8D9B-4F1D-AE23-E59BBF5726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5341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Palatino"/>
              </a:rPr>
              <a:t>Initial Results from the Chandra Shallow X-ray Survey in the NDWFS in Boötes</a:t>
            </a:r>
            <a:endParaRPr b="1" lang="en-US" sz="36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80880" y="3200400"/>
            <a:ext cx="83059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no"/>
              </a:rPr>
              <a:t>S. Murray, C. Jones, W. Forman, A. Kenter, A. Vikhlinin, 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no"/>
              </a:rPr>
              <a:t>P. Green, D. Fabricant, G. Fazio - CfA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886e0"/>
                </a:solidFill>
                <a:latin typeface="Palatino"/>
              </a:rPr>
              <a:t>B. Jannuzi, A. Dey, J. Najita, M. Brown, K. Brand - NOAO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Palatino"/>
              </a:rPr>
              <a:t>J. Shields, B. McNamara - OhioU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M. Rieke - AzU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Palatino"/>
              </a:rPr>
              <a:t>C. Kochanek - OSU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Extended Source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15885" t="21367" r="15885" b="25004"/>
          <a:stretch/>
        </p:blipFill>
        <p:spPr>
          <a:xfrm>
            <a:off x="457200" y="1447920"/>
            <a:ext cx="5167440" cy="5257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943600" y="1981080"/>
            <a:ext cx="30481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2680" indent="-112680"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ched Filter Analysis -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Vikhlinin 1995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60440" indent="-1731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2 Sources (0.5-2 ke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60440" indent="-1731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tical follow ups indicate most are clus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60440" indent="-1731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troscopic redshifts are n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60440" indent="-1731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osmic Variance on ACIS-I 16’x16’ FOV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0" y="1904760"/>
            <a:ext cx="4038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126 Fields, 4767 sources ≥ 2 counts, 0.5-7 keV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onsistent with Poisson distribution with mean 36.33 sources per field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36" name=""/>
          <p:cNvSpPr/>
          <p:nvPr/>
        </p:nvSpPr>
        <p:spPr>
          <a:xfrm>
            <a:off x="4876920" y="5054760"/>
            <a:ext cx="37828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403848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2-Point Angular Correlation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5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) is the excess probability of finding a source with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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 of another source (Peebles, 1980)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We estimat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) according to Landy and Szalay, 1993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Kenter et al. Poster (43.15 yesterday) for more detail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Solid line is from Vikhlinin 1995 for ROSAT 140 deg</a:t>
            </a:r>
            <a:r>
              <a:rPr b="0" lang="en-US" sz="2400" spc="-1" strike="noStrike" baseline="30000">
                <a:solidFill>
                  <a:srgbClr val="ffffff"/>
                </a:solidFill>
                <a:latin typeface="Palatino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74680" y="1600200"/>
            <a:ext cx="679284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Log N - Log 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Use convolution method (Kenter and Murray 2003) to fit survey data with 2 ct threshold. Note this is differential N(S), not integral N(&gt;S)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Results agree with previous surveys, including Chandra Deep Fields (e.g., Giaconni 2001)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257480" y="1295280"/>
            <a:ext cx="662940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Source Identification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NDWFS - 9 deg</a:t>
            </a:r>
            <a:r>
              <a:rPr b="0" lang="en-US" sz="2800" spc="-1" strike="noStrike" baseline="30000">
                <a:solidFill>
                  <a:srgbClr val="ffffff"/>
                </a:solidFill>
                <a:latin typeface="Palatino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 in Boöt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(Jannuzi and Dey, 1999; Brown et al., 2003)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Palatino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 (U and B), R, I =&gt; 26 mag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K 19 - 19.5 =&gt; mag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K partial coverage (6 deg</a:t>
            </a:r>
            <a:r>
              <a:rPr b="0" lang="en-US" sz="2400" spc="-1" strike="noStrike" baseline="30000">
                <a:solidFill>
                  <a:srgbClr val="ffffff"/>
                </a:solidFill>
                <a:latin typeface="Palatino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ub arc second astrometry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Multicolor magnitudes to few hundredth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an get estimated photometric redshifts for galaxies, need spectra for AGN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Match to X-ray sources with ≥ 4 counts (need good positions)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Fraction ≥ 4 Counts Matched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olid Curve - R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Dashed Curve - 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Palatino"/>
              </a:rPr>
              <a:t>w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Dotted Curve - I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Dot-dashed Curve - K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95% have at least some match within the X-ray position uncertainty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" y="2050920"/>
            <a:ext cx="403848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X-ray Optical Matche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Typical match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Use greater of 1.5” or 3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 X-ray position error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R=23.78 m, X=5.24 ct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~50% of X ≥ 4 ct have R &gt; 22 m match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38360" y="1600200"/>
            <a:ext cx="347652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Accurate X-ray Position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Group of possible ID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One uniquely within 1.5 arc second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R=19 m, X=11.26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Might be a group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38360" y="1600200"/>
            <a:ext cx="347652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Empty Field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X = 12.76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Palatino"/>
              </a:rPr>
              <a:t>lim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=25.8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Only 5% of ≥ 4 count X-ray sources have no match =&gt; ~150,  but only ~20 spurious expected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May be extremely absorbed source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38360" y="1600200"/>
            <a:ext cx="347652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Near Bright Galaxy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X = 4.18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Bright  elliptical galaxy is 10 arc seconds offset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an mask possible faint candidate 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38360" y="1600200"/>
            <a:ext cx="347652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Survey Characteristic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Large contiguous area (9.3 deg</a:t>
            </a:r>
            <a:r>
              <a:rPr b="0" lang="en-US" sz="3200" spc="-1" strike="noStrike" baseline="30000">
                <a:solidFill>
                  <a:srgbClr val="ffffff"/>
                </a:solidFill>
                <a:latin typeface="Palatino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), with arc second resolution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Well studied optically - NOAO Deep Wide File Survey (NDWFS)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Accessible for spectroscopic follow up (MMT-Hectospec, Gemini, Keck, …)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Multiwavelength coverage (SST-IRAC, VLA-FIRST, GALEX, …)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entered a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=1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Palatino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 3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Palatino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=34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 06’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Spectroscopy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MMT Hectospect Run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4 Nights for NDWF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676 X-ray selected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208    R&lt;19.2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175    19.2&lt;R&lt;20.0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293    20.0&lt;R&lt;22.0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Redshifts for 509; 353 AGN, 152 Galaxy (all z&lt;1)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98     0.0&lt;z&lt;1.0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183   1.0&lt;z&lt;2.0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72            z&gt;2.0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403848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onclusion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79000"/>
            <a:ext cx="822960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urvey detects expected numbers of point and extended sources.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The NDWFS is a good match to the X-ray depth and identifies most of the sources.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Optical positions can be used for multi-object spectroscopy to obtain redshifts (4 nights with MMT-Hectospec in April, a good start &gt; 676 spectra of X-ray selected objects), more in June 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X-ray follow up, especially for extended sources.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When complete will provide a true 3D survey over 9.3 square degree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Science Objective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omplete Flux Limited Contiguous Survey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Optical Id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Redshifts 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Spectroscopic complete to R &lt; (21-22)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Photometric to R &lt; (24-26)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Large Scale Structure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Angular and Spatial Correlation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Luminosity Function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Classes 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luster Survey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Mosaic of X-ray Field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126 ACIS-I pointings (ACIS-S2 chip also) 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5 ksec exposure (4287 - 5120 sec)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Fields overlap by about 1 arc minute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Total of 630 ksec of Chandra time (about 2 orbits)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March/April 2003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2008080"/>
            <a:ext cx="4038480" cy="3683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2520" y="2000160"/>
            <a:ext cx="404316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643040" y="152280"/>
            <a:ext cx="5789520" cy="6477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191120" y="2971800"/>
            <a:ext cx="761760" cy="762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rcRect l="42659" t="44484" r="42659" b="44484"/>
          <a:stretch/>
        </p:blipFill>
        <p:spPr>
          <a:xfrm>
            <a:off x="573120" y="68400"/>
            <a:ext cx="799956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971720"/>
            <a:ext cx="4038480" cy="37558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Representative  Single Field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eq 3602 (N-F57)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Total counts ~3000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moothed with 2 arc second Gaussian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Raw image analyzed with wavelet detect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31 sources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2 cts)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1 extended source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55760" y="1973160"/>
            <a:ext cx="403992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Source Existence 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Typically fields have ~3000 events (in 5000 sec)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B = 7.2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Palatino"/>
              </a:rPr>
              <a:t>-4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 ct/pixel (~0.5 arc second)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27920" indent="-28008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On axis detect cell is 2x2 arcsec = 16 pixels =&gt; B=1.2x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Palatino"/>
              </a:rPr>
              <a:t>-2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Poisson Statistics give: P(≥2)=7.143x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Palatino"/>
              </a:rPr>
              <a:t>-5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 (3.8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P(≥3)=2.9x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Palatino"/>
              </a:rPr>
              <a:t>-7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 (&gt;5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lvl="1" marL="727920" indent="-28008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Off axis detect cell is 8x8 arcsec = 256 pixels =&gt;B=1.84x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Palatino"/>
              </a:rPr>
              <a:t>-1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2" marL="1119960" indent="-223920">
              <a:spcBef>
                <a:spcPts val="451"/>
              </a:spcBef>
              <a:buClr>
                <a:srgbClr val="e5e5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P(≥2) =&gt; 2.2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, P(≥3) =&gt; 3.1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, P(≥4) =&gt;3.9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Palatino"/>
              </a:rPr>
              <a:t>, P(≥5)=&gt;4.7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endParaRPr b="0" lang="en-US" sz="1800" spc="-1" strike="noStrike">
              <a:solidFill>
                <a:srgbClr val="ffffff"/>
              </a:solidFill>
              <a:latin typeface="Palatino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At a 4 count threshold, </a:t>
            </a:r>
            <a:r>
              <a:rPr b="0" lang="en-US" sz="2400" spc="-1" strike="noStrike">
                <a:solidFill>
                  <a:srgbClr val="ff0000"/>
                </a:solidFill>
                <a:latin typeface="Palatino"/>
              </a:rPr>
              <a:t>&gt;99% of sources should be real</a:t>
            </a: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 no matter where they are in each field. Closer to the center even sources with 2 counts are likely to be rea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Use simulations to quantify these conclusions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X-Ray Survey Detection Result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Analysis in 0.5-2 keV, 2-7 keV and 0.5-7 kev bands independently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IAO Wavedetect  using 1,2,4,8 x 2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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 scales, 2 count (5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Palatino"/>
              </a:rPr>
              <a:t>-5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) threshold yields: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4578 pt sources (0.5-7 keV)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3352 pt sources  (0.5-2 keV)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2008 pt sources (2-7 keV)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42 extended sources (0.5-2 keV)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2942 pt sources (0.5-7 keV) ≥4 count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1636 pt sources (0.5-7 keV) with 2 and 3 count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Spurious Source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Fully simulate 400 source free fields using archival ACIS-I background data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cale to 126 fields: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Expect ~22 spurious for ≥ 4 counts. 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Expect ~625 spurious for ≥ 2 counts.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403848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31T22:23:10Z</dcterms:created>
  <dc:creator>Stephen S. Murray</dc:creator>
  <dc:description/>
  <dc:language>en-US</dc:language>
  <cp:lastModifiedBy>Stephen S. Murray</cp:lastModifiedBy>
  <dcterms:modified xsi:type="dcterms:W3CDTF">2004-06-02T03:33:36Z</dcterms:modified>
  <cp:revision>4</cp:revision>
  <dc:subject/>
  <dc:title>X-Ray Boötes 3 Dimensional Survey</dc:title>
</cp:coreProperties>
</file>