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9316-1189-4EB8-8FBD-8956D1251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464E-3695-4850-8807-F5C5D5C46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626D-EA38-4B08-A311-A2DAE8FB0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266F-C457-47EF-B2B8-309016246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61C5-3635-4516-A4E4-9F96CA8E3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7A50-453B-41E3-ACE1-7B66FE005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50F9-9632-429B-B7A4-B31D3D1BF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5C86-66C3-42E5-A9E4-D9A9EBCF6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8D2D-B410-4181-9550-1E0655ABF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9CF1-695D-4B58-A5AA-C999BF6B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A6A0-2029-4DCF-AD24-7AA9DFE5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96C1-E75E-4D02-B0E5-7C633835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4B5E7-089A-4606-B6F1-C31BC52293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flamingo" descr=""/>
          <p:cNvPicPr/>
          <p:nvPr/>
        </p:nvPicPr>
        <p:blipFill>
          <a:blip r:embed="rId1"/>
          <a:stretch/>
        </p:blipFill>
        <p:spPr>
          <a:xfrm>
            <a:off x="6508800" y="2743200"/>
            <a:ext cx="2711520" cy="4114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380880"/>
            <a:ext cx="91440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he FLAMINGOS Extragalactic Survey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990720"/>
            <a:ext cx="77724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0000" y="3427920"/>
            <a:ext cx="6071040" cy="30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Mike Brown       (NOAO)</a:t>
            </a: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  Yen-Ting Lin   (Illinoi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Arjun Dey          (NOAO)</a:t>
            </a: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  Eric McKenzie (Florid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Mark Dickinson (NOAO)</a:t>
            </a: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  Joe Mohr          (Illinoi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Peter Eisenhardt (JPL)</a:t>
            </a: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  Nick Raines     (Florid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Buell Jannuzi     (NOAO)</a:t>
            </a: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  Adam Stanford (IGPP/Davi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Daniel Stern       (JPL/Caltec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29880" y="2787120"/>
            <a:ext cx="285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Richard Elst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Anthony Gonzal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483080" y="334008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10666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cc00"/>
                </a:solidFill>
                <a:uFillTx/>
                <a:latin typeface="Times New Roman"/>
              </a:rPr>
              <a:t>Survey Statu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904760" y="1752480"/>
            <a:ext cx="7086600" cy="4114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Have imaged 6.8 sq. degrees with 14 nights rem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Averaging ~50% usable nights so f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Expect to have ~8-8.5 sq. degrees by end of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Bootes: 4.65 sq. de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Cetus: ~3.5-4 sq. de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Data &gt;80% redu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Initial series of papers planned for summer/f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flamingo" descr=""/>
          <p:cNvPicPr/>
          <p:nvPr/>
        </p:nvPicPr>
        <p:blipFill>
          <a:blip r:embed="rId1"/>
          <a:stretch/>
        </p:blipFill>
        <p:spPr>
          <a:xfrm>
            <a:off x="0" y="4038480"/>
            <a:ext cx="1857240" cy="2819520"/>
          </a:xfrm>
          <a:prstGeom prst="rect">
            <a:avLst/>
          </a:prstGeom>
          <a:ln w="0">
            <a:noFill/>
          </a:ln>
        </p:spPr>
      </p:pic>
      <p:pic>
        <p:nvPicPr>
          <p:cNvPr id="105" name="kpno84moonlitxs" descr=""/>
          <p:cNvPicPr/>
          <p:nvPr/>
        </p:nvPicPr>
        <p:blipFill>
          <a:blip r:embed="rId2"/>
          <a:stretch/>
        </p:blipFill>
        <p:spPr>
          <a:xfrm>
            <a:off x="0" y="0"/>
            <a:ext cx="2209680" cy="15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483080" y="334008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16002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cc00"/>
                </a:solidFill>
                <a:uFillTx/>
                <a:latin typeface="Times New Roman"/>
              </a:rPr>
              <a:t>Data Products and Data Releas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904760" y="1752480"/>
            <a:ext cx="7086600" cy="4114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J &amp; K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 merged photometric cata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SExtractor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Subarcsecond astr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Merged with NDWFS cata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Bootes data release planned for late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etus data release planned for spring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flamingo" descr=""/>
          <p:cNvPicPr/>
          <p:nvPr/>
        </p:nvPicPr>
        <p:blipFill>
          <a:blip r:embed="rId1"/>
          <a:stretch/>
        </p:blipFill>
        <p:spPr>
          <a:xfrm>
            <a:off x="0" y="4038480"/>
            <a:ext cx="1857240" cy="2819520"/>
          </a:xfrm>
          <a:prstGeom prst="rect">
            <a:avLst/>
          </a:prstGeom>
          <a:ln w="0">
            <a:noFill/>
          </a:ln>
        </p:spPr>
      </p:pic>
      <p:pic>
        <p:nvPicPr>
          <p:cNvPr id="112" name="kpno84moonlitxs" descr=""/>
          <p:cNvPicPr/>
          <p:nvPr/>
        </p:nvPicPr>
        <p:blipFill>
          <a:blip r:embed="rId2"/>
          <a:stretch/>
        </p:blipFill>
        <p:spPr>
          <a:xfrm>
            <a:off x="0" y="0"/>
            <a:ext cx="2209680" cy="15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4483080" y="334008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6" name="r1d2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429680" cy="47023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914400" y="5943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Preliminary detection using wavelets for J-K</a:t>
            </a:r>
            <a:r>
              <a:rPr b="0" lang="en-US" sz="2400" spc="-1" strike="noStrike" baseline="-25000">
                <a:solidFill>
                  <a:srgbClr val="ffcc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=1.75-2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Will eventually utilize photo-z’s  (BVIJK</a:t>
            </a:r>
            <a:r>
              <a:rPr b="0" lang="en-US" sz="2400" spc="-1" strike="noStrike" baseline="-25000">
                <a:solidFill>
                  <a:srgbClr val="ffcc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c00"/>
                </a:solidFill>
                <a:uFillTx/>
                <a:latin typeface="Times New Roman"/>
              </a:rPr>
              <a:t>The FLAMINGOS Extragalactic Survey: </a:t>
            </a:r>
            <a:br>
              <a:rPr sz="3200"/>
            </a:br>
            <a:r>
              <a:rPr b="1" lang="en-US" sz="3200" spc="-1" strike="noStrike" u="sng">
                <a:solidFill>
                  <a:srgbClr val="ffcc00"/>
                </a:solidFill>
                <a:uFillTx/>
                <a:latin typeface="Times New Roman"/>
              </a:rPr>
              <a:t>First High-Redshift Cluster Candidates</a:t>
            </a:r>
            <a:r>
              <a:rPr b="1" lang="en-US" sz="3600" spc="-1" strike="noStrike" u="sng">
                <a:solidFill>
                  <a:srgbClr val="ffcc00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483080" y="334008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cc00"/>
                </a:solidFill>
                <a:uFillTx/>
                <a:latin typeface="Times New Roman"/>
              </a:rPr>
              <a:t>Summar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904760" y="1752480"/>
            <a:ext cx="7086600" cy="4114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The FLAMINGOS Extragalactic Survey is almost complet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Last observations in fall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Final area ~8-8.5 deg</a:t>
            </a:r>
            <a:r>
              <a:rPr b="0" lang="en-US" sz="1800" spc="-1" strike="noStrike" baseline="30000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Complete Bootes data release by late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Matched J &amp; K</a:t>
            </a:r>
            <a:r>
              <a:rPr b="0" lang="en-US" sz="1800" spc="-1" strike="noStrike" baseline="-25000">
                <a:solidFill>
                  <a:srgbClr val="00ff00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 catalo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Times New Roman"/>
              </a:rPr>
              <a:t>Plan to also release merged catalogs with NDW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Key element of the large multiwavelength effort in NDW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flamingo" descr=""/>
          <p:cNvPicPr/>
          <p:nvPr/>
        </p:nvPicPr>
        <p:blipFill>
          <a:blip r:embed="rId1"/>
          <a:stretch/>
        </p:blipFill>
        <p:spPr>
          <a:xfrm>
            <a:off x="0" y="4038480"/>
            <a:ext cx="1857240" cy="2819520"/>
          </a:xfrm>
          <a:prstGeom prst="rect">
            <a:avLst/>
          </a:prstGeom>
          <a:ln w="0">
            <a:noFill/>
          </a:ln>
        </p:spPr>
      </p:pic>
      <p:pic>
        <p:nvPicPr>
          <p:cNvPr id="125" name="kpno84moonlitxs" descr=""/>
          <p:cNvPicPr/>
          <p:nvPr/>
        </p:nvPicPr>
        <p:blipFill>
          <a:blip r:embed="rId2"/>
          <a:stretch/>
        </p:blipFill>
        <p:spPr>
          <a:xfrm>
            <a:off x="0" y="0"/>
            <a:ext cx="2209680" cy="15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7080" y="1523880"/>
            <a:ext cx="495324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Target Area:   10 deg</a:t>
            </a:r>
            <a:r>
              <a:rPr b="1" lang="en-US" sz="2400" spc="-1" strike="noStrike" baseline="30000">
                <a:solidFill>
                  <a:srgbClr val="0066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 (90 pointin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Target Depth: K</a:t>
            </a:r>
            <a:r>
              <a:rPr b="1" lang="en-US" sz="2400" spc="-1" strike="noStrike" baseline="-25000">
                <a:solidFill>
                  <a:srgbClr val="0066ff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=20.5, J=22 (Veg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Location:  Both NDWFS 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cc00"/>
                </a:solidFill>
                <a:uFillTx/>
                <a:latin typeface="Times New Roman"/>
              </a:rPr>
              <a:t>The FLAMINGOS Extragalactic Survey</a:t>
            </a:r>
            <a:r>
              <a:rPr b="1" lang="en-US" sz="3600" spc="-1" strike="noStrike" u="sng">
                <a:solidFill>
                  <a:srgbClr val="ffcc00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2meter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4191120" cy="3146400"/>
          </a:xfrm>
          <a:prstGeom prst="rect">
            <a:avLst/>
          </a:prstGeom>
          <a:ln w="0">
            <a:noFill/>
          </a:ln>
        </p:spPr>
      </p:pic>
      <p:pic>
        <p:nvPicPr>
          <p:cNvPr id="53" name="kpno84moonlitxs" descr=""/>
          <p:cNvPicPr/>
          <p:nvPr/>
        </p:nvPicPr>
        <p:blipFill>
          <a:blip r:embed="rId2"/>
          <a:stretch/>
        </p:blipFill>
        <p:spPr>
          <a:xfrm>
            <a:off x="76320" y="1495440"/>
            <a:ext cx="4219560" cy="3000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-304920" y="4572000"/>
            <a:ext cx="53341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KPNO 2m + FLAMIN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NOAO Large Survey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nal observations: October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4800" y="1523880"/>
            <a:ext cx="50292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ff"/>
                </a:solidFill>
                <a:latin typeface="Times New Roman"/>
              </a:rPr>
              <a:t>Galaxy Ev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Times New Roman"/>
              </a:rPr>
              <a:t>Star Formation His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Times New Roman"/>
              </a:rPr>
              <a:t>Mass Accretion Histo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Times New Roman"/>
              </a:rPr>
              <a:t>Correlation Function at z=1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cc00"/>
                </a:solidFill>
                <a:uFillTx/>
                <a:latin typeface="Times New Roman"/>
              </a:rPr>
              <a:t>Motivation</a:t>
            </a:r>
            <a:r>
              <a:rPr b="1" lang="en-US" sz="3600" spc="-1" strike="noStrike" u="sng">
                <a:solidFill>
                  <a:srgbClr val="ffcc00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2meter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4191120" cy="3146400"/>
          </a:xfrm>
          <a:prstGeom prst="rect">
            <a:avLst/>
          </a:prstGeom>
          <a:ln w="0">
            <a:noFill/>
          </a:ln>
        </p:spPr>
      </p:pic>
      <p:pic>
        <p:nvPicPr>
          <p:cNvPr id="60" name="kpno84moonlitxs" descr=""/>
          <p:cNvPicPr/>
          <p:nvPr/>
        </p:nvPicPr>
        <p:blipFill>
          <a:blip r:embed="rId2"/>
          <a:stretch/>
        </p:blipFill>
        <p:spPr>
          <a:xfrm>
            <a:off x="76320" y="1495440"/>
            <a:ext cx="4219560" cy="3000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-76320" y="4572000"/>
            <a:ext cx="46483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ff00"/>
                </a:solidFill>
                <a:latin typeface="Times New Roman"/>
              </a:rPr>
              <a:t>Galaxy Cluster Ev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Statistical Cluster Sample at z=1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Evolution of Cluster Galaxies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Cosmological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68720" y="1065600"/>
            <a:ext cx="67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Near-infrared observations provide unique leve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singsspectrum_z0a" descr=""/>
          <p:cNvPicPr/>
          <p:nvPr/>
        </p:nvPicPr>
        <p:blipFill>
          <a:blip r:embed="rId1"/>
          <a:stretch/>
        </p:blipFill>
        <p:spPr>
          <a:xfrm>
            <a:off x="154080" y="200160"/>
            <a:ext cx="8848800" cy="5945040"/>
          </a:xfrm>
          <a:prstGeom prst="rect">
            <a:avLst/>
          </a:prstGeom>
          <a:ln w="0">
            <a:noFill/>
          </a:ln>
        </p:spPr>
      </p:pic>
      <p:pic>
        <p:nvPicPr>
          <p:cNvPr id="66" name="singsspectrum_z0" descr=""/>
          <p:cNvPicPr/>
          <p:nvPr/>
        </p:nvPicPr>
        <p:blipFill>
          <a:blip r:embed="rId2"/>
          <a:stretch/>
        </p:blipFill>
        <p:spPr>
          <a:xfrm>
            <a:off x="152280" y="196920"/>
            <a:ext cx="8839440" cy="59389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942160" y="6233400"/>
            <a:ext cx="280980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imes New Roman"/>
              </a:rPr>
              <a:t>M82   (http://sings.stsci.ed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37720" y="6247440"/>
            <a:ext cx="6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z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4483080" y="334008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5942160" y="6233400"/>
            <a:ext cx="280980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imes New Roman"/>
              </a:rPr>
              <a:t>M82   (http://sings.stsci.ed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37720" y="6247440"/>
            <a:ext cx="6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z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singsspectrum_z1" descr=""/>
          <p:cNvPicPr/>
          <p:nvPr/>
        </p:nvPicPr>
        <p:blipFill>
          <a:blip r:embed="rId1"/>
          <a:stretch/>
        </p:blipFill>
        <p:spPr>
          <a:xfrm>
            <a:off x="154080" y="200160"/>
            <a:ext cx="8848800" cy="59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483080" y="334008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5942160" y="6233400"/>
            <a:ext cx="280980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imes New Roman"/>
              </a:rPr>
              <a:t>M82   (http://sings.stsci.ed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singsspectrum_z2" descr=""/>
          <p:cNvPicPr/>
          <p:nvPr/>
        </p:nvPicPr>
        <p:blipFill>
          <a:blip r:embed="rId1"/>
          <a:stretch/>
        </p:blipFill>
        <p:spPr>
          <a:xfrm>
            <a:off x="152280" y="200160"/>
            <a:ext cx="8848800" cy="59450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737720" y="6247440"/>
            <a:ext cx="6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z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cc00"/>
                </a:solidFill>
                <a:uFillTx/>
                <a:latin typeface="Times New Roman"/>
              </a:rPr>
              <a:t>Northern Field (Bootes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2320" y="1583280"/>
            <a:ext cx="121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4.65 deg</a:t>
            </a:r>
            <a:r>
              <a:rPr b="1" lang="en-US" sz="2000" spc="-1" strike="noStrike" baseline="30000">
                <a:solidFill>
                  <a:srgbClr val="ffcc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-1368360" y="2892960"/>
            <a:ext cx="1245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V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SIRT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DW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A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Chand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northfinal2" descr=""/>
          <p:cNvPicPr/>
          <p:nvPr/>
        </p:nvPicPr>
        <p:blipFill>
          <a:blip r:embed="rId1"/>
          <a:stretch/>
        </p:blipFill>
        <p:spPr>
          <a:xfrm>
            <a:off x="2048040" y="1181160"/>
            <a:ext cx="701964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cc00"/>
                </a:solidFill>
                <a:uFillTx/>
                <a:latin typeface="Times New Roman"/>
              </a:rPr>
              <a:t>Southern Field (Cetus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south.b" descr=""/>
          <p:cNvPicPr/>
          <p:nvPr/>
        </p:nvPicPr>
        <p:blipFill>
          <a:blip r:embed="rId1"/>
          <a:stretch/>
        </p:blipFill>
        <p:spPr>
          <a:xfrm>
            <a:off x="228600" y="1568520"/>
            <a:ext cx="8720280" cy="46036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93760" y="1172160"/>
            <a:ext cx="588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2.11 deg</a:t>
            </a:r>
            <a:r>
              <a:rPr b="1" lang="en-US" sz="2000" spc="-1" strike="noStrike" baseline="30000">
                <a:solidFill>
                  <a:srgbClr val="ffcc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  complete, 14 nights remaining in Fall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30920" y="7024680"/>
            <a:ext cx="530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FIRST, SIRTF, NDWFS, GALEX, X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483080" y="3340080"/>
                <a:ext cx="1778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6" name="fullfield" descr=""/>
          <p:cNvPicPr/>
          <p:nvPr/>
        </p:nvPicPr>
        <p:blipFill>
          <a:blip r:embed="rId1"/>
          <a:stretch/>
        </p:blipFill>
        <p:spPr>
          <a:xfrm>
            <a:off x="2104920" y="971640"/>
            <a:ext cx="4934160" cy="4914720"/>
          </a:xfrm>
          <a:prstGeom prst="rect">
            <a:avLst/>
          </a:prstGeom>
          <a:ln w="0">
            <a:noFill/>
          </a:ln>
        </p:spPr>
      </p:pic>
      <p:pic>
        <p:nvPicPr>
          <p:cNvPr id="97" name="zoom" descr=""/>
          <p:cNvPicPr/>
          <p:nvPr/>
        </p:nvPicPr>
        <p:blipFill>
          <a:blip r:embed="rId2"/>
          <a:stretch/>
        </p:blipFill>
        <p:spPr>
          <a:xfrm>
            <a:off x="-1380960" y="-114480"/>
            <a:ext cx="11905920" cy="70869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032280" y="60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9T21:52:59Z</dcterms:created>
  <dc:creator>Anthony Gonzalez</dc:creator>
  <dc:description/>
  <dc:language>en-US</dc:language>
  <cp:lastModifiedBy>Anthony Gonzalez</cp:lastModifiedBy>
  <dcterms:modified xsi:type="dcterms:W3CDTF">2004-06-10T17:25:44Z</dcterms:modified>
  <cp:revision>341</cp:revision>
  <dc:subject/>
  <dc:title>The FLAMINGOS Extragalactic Survey</dc:title>
</cp:coreProperties>
</file>