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6C2B-B360-4C27-83E5-47B8837A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319-405A-49C8-AF2C-FCC334C4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9FE-CB17-4716-B27D-E62CA866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19F-7E09-4495-B45A-79DE011F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46E-D216-4E0A-A533-FD2C9BE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327-8D0B-4B3F-92D0-5760486C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685-D121-45CC-9555-5ABBB397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EFD-F7A2-4676-A1D9-7671F18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95B-1A5E-4A72-A434-818CC259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C45-33F0-44B1-99A7-CAC9A536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D6A-926C-4428-895D-F430BAF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EB9-61AA-448F-93A8-4120FAA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C53C-90EC-4FB4-996A-1DB9AA0936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GALEX and NDWFS Investigation of Star Forming Galaxies at z=1 and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les G. Hoopes, Timothy M. Heckman (JH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ell T. Jannuzi, Arjun Dey, Michael J. I. Brow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son Ford (NOA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Davis Schiminovich (Columb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June 2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tar Formation and Extin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733920" y="1523880"/>
            <a:ext cx="5138640" cy="432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7080" y="1752480"/>
            <a:ext cx="336744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may be seeing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ition in star 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s from LBGs to present-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bur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(see also Arnouts et al. 2004 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ALEX edition of ApJ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extinction implied 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V slope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(B-V)~0.1 for z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(B-V)~0.2 for z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ut there is a degenerac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tween redshift and UV slop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nly sensitive to E(B-V)&lt;0.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atching techniques, photo-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GALEX ob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tzer observations of this region are plan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oscopic follow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EX-NDWFS collaboration will shed light on galaxy evolution at z=1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amount of GALEX data in the Bootes region is co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results show the vigorous star formation of Lyman Break Galaxies fading from z=2 to z=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e Galaxy Evolution Explorer (GALEX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unched April 28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g in two UV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UV: </a:t>
            </a:r>
            <a:r>
              <a:rPr b="0" lang="el-GR" sz="2000" spc="-1" strike="noStrike">
                <a:solidFill>
                  <a:srgbClr val="ccffff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1516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ccffff"/>
                </a:solidFill>
                <a:latin typeface="Arial"/>
                <a:ea typeface="Arial"/>
              </a:rPr>
              <a:t>Δλ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268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NUV: </a:t>
            </a:r>
            <a:r>
              <a:rPr b="0" lang="el-GR" sz="2000" spc="-1" strike="noStrike">
                <a:solidFill>
                  <a:srgbClr val="ccffff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2267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, </a:t>
            </a:r>
            <a:r>
              <a:rPr b="0" lang="el-GR" sz="2000" spc="-1" strike="noStrike">
                <a:solidFill>
                  <a:srgbClr val="ccffff"/>
                </a:solidFill>
                <a:latin typeface="Arial"/>
                <a:ea typeface="Arial"/>
              </a:rPr>
              <a:t>Δλ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732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patial resolution ~5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FOV ~1.2 deg</a:t>
            </a:r>
            <a:r>
              <a:rPr b="0" lang="en-US" sz="20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itless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1350-2800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Spectral resolution R=80-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ing several surveys of varying depth and area, as well as pointed ob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6781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apping the History of Star Formation in the Univer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 history of universe mapped out to z&gt;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ly little known about z&lt;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techniques used for different redshift interv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267080" cy="420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25880" y="5791320"/>
            <a:ext cx="38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From Giavalisco 2002 and Barger et al 2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463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yman Break Galaxies at z&gt;3: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-band dropou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yman Break Galaxies at z&gt;3: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-band dropout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Arial"/>
              </a:rPr>
              <a:t>GALEX Observations of Bootes Region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ep Imaging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80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, including the 9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Bootes region of the NDWF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imiting magnitude AB=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1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observed in 2003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(the “00” field - 43 kse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2 more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coming this w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tra-Deep Imaging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4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, including the “00” field in Boo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imiting magnitude AB=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200 ksec planned (100 in 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ep Spectroscopic 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2 deg</a:t>
            </a:r>
            <a:r>
              <a:rPr b="0" lang="en-US" sz="16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, including the “00” f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imiting magnitude AB=22.5-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lemented NDWFS data with deep 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servations (AB=26) in the “00”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67812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z=1: FUV Dropou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640040" cy="4876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447920"/>
            <a:ext cx="3505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tractor (Bertin &amp; Arnouts 1996) dual band catalog in NUV/FUV matched with U-b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tial resolution difference (~5” for GALEX, &lt;1” for U-band) creates identifica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colors to model colors of redshifted starburst spectra (following Steidel et a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z=2: NUV Dropou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62520" y="1219320"/>
            <a:ext cx="4578120" cy="4762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tractor single-band catalogs matched in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, N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tial resolution problems re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e colors to model colors of redshifted starburst spectra (following Steidel et a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UV Luminos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1280" y="1560600"/>
            <a:ext cx="2748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minosities calcu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filter redward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yman bre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nter z=2 galax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ed against, bu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ght z=1 galaxies wou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 detec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that m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minous galaxies at z=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ve faded by z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0080" y="5268960"/>
            <a:ext cx="2833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* at z=0 from Treyer et al. 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GALEX edition of APJ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* for LBGs from Giavalisco 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124240" cy="436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ALEX-NDWFS Investigation of Galaxies at z=1-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16:43:23Z</dcterms:created>
  <dc:creator>GALEX</dc:creator>
  <dc:description/>
  <dc:language>en-US</dc:language>
  <cp:lastModifiedBy>GALEX</cp:lastModifiedBy>
  <dcterms:modified xsi:type="dcterms:W3CDTF">2004-06-01T01:34:52Z</dcterms:modified>
  <cp:revision>43</cp:revision>
  <dc:subject/>
  <dc:title>A GALEX and NDWFS Investigation of Star Forming Galaxies at z=1 and 2</dc:title>
</cp:coreProperties>
</file>