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7803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7803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4560" y="37803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7803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360" y="37803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37803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37803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4560" y="37803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7803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520" y="37803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7803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4560" y="37803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520" y="37803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0360" y="37803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0560" y="37803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7803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4560" y="37803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7803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70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477120"/>
            <a:ext cx="3733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46480" y="6510240"/>
            <a:ext cx="1223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TS-</a:t>
            </a:r>
            <a:fld id="{92585689-7CFC-4D15-AA51-1D863AE18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9360" y="1440"/>
            <a:ext cx="6245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8760" y="1073160"/>
            <a:ext cx="8826480" cy="73080"/>
          </a:xfrm>
          <a:prstGeom prst="parallelogram">
            <a:avLst>
              <a:gd name="adj" fmla="val -335863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47520"/>
            <a:ext cx="1905120" cy="10191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553080" y="0"/>
            <a:ext cx="2590920" cy="97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70000"/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6586560"/>
            <a:ext cx="266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46120" y="6477120"/>
            <a:ext cx="1258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TS: </a:t>
            </a:r>
            <a:fld id="{1C35AECA-AF3B-4AB6-85E8-E4FA09C0F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9360" y="1440"/>
            <a:ext cx="6245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8760" y="762120"/>
            <a:ext cx="8826480" cy="73080"/>
          </a:xfrm>
          <a:prstGeom prst="parallelogram">
            <a:avLst>
              <a:gd name="adj" fmla="val -335863"/>
            </a:avLst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5120" y="3049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178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73560" y="1714680"/>
            <a:ext cx="35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IRS/MIPS/NOAO Collab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6840" y="1793880"/>
            <a:ext cx="417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S/MIPS/NOAO Collab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NWDFS Bootes 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T.Soifer for the collabo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Early Spectroscopic Results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724280" y="3733920"/>
          <a:ext cx="4152960" cy="261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733920"/>
                    <a:ext cx="4152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5698800" y="952560"/>
            <a:ext cx="31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ck Observations – May 15-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¾ clear night w/LR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cloudy night w/DEIM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s observed in 6 mas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2(+0/-2) redshifts obtai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st majority narrow li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obvious AG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920" y="990720"/>
          <a:ext cx="4800600" cy="2541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990720"/>
                    <a:ext cx="480060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What’s to come??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tze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alysis of planned spectr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servations of more target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lometric corrections from MIPS 70 &amp; 160 micron observation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-based follow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 of existing data to test, calibrate photo-z from NWDFS photometr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itional optical redshifts for AGN selection, z distribution, photo-z calibra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ar IR spectra for objects with no Spitzer/Optical z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oto-z analysis of entire sampl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R selected lum function as function of z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lley/Madeau diagram from 24 micron selected sampl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The Collaboration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327636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ssilis Charamanda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i H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ry Her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m Hig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rah Hig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m Hou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 Weedm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C /Calt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e Ar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ry Tepli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de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hard Bran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1295280"/>
            <a:ext cx="457200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te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o Bi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oifer (also SS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A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ke Br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jun D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ell Jannuz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 Ariz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eric Le Foch'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Papov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cia Rie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D  Smi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Goals of the Project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new classes of Extragalactic Objects at High Redshi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dust enshrouded star formation rate with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AGN content in IR selected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unusual galactic sources at high latitude (debris disks, dust enshrouded late type stars, cold Brown Dwarf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Observational Program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PS survey of Bootes Field component of  NW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 ecliptic latitude required for low IR background, minimum contamination from asteroid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sitivity set to insure high s/n detection at 24microns of targets whose spectra can be obtained with IRS/low resolution in 1-2 hrs observing time (0.75 mJy limit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rvey executed – late January 200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S followup spectroscopy of targets found with faint or no optical counter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PS 24um Catalog produced March 200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rget selection done 1 April 2004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bservations planned for next available observing window (June/July 04)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-based follow-up spectroscopy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ctospec / MMT for sources brighter than ~ 21 ma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IMOS/LRIS/Keck for sources as faint as 25 ma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The Catalog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77058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dN/dS∙S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Palatino"/>
              </a:rPr>
              <a:t>2.5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92468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MIPS/Optical Position Comparison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5105520" cy="5535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27280" y="1676520"/>
            <a:ext cx="3566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rom Bootes Field Surv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llaboration between IR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PS instrument teams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AO tea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on difference betw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um source and nearest opt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erp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ons good enough to mak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ingful IDs with  deepes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optical imaging mater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Some Features of the Sample - 1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152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eatures - 2</a:t>
            </a:r>
            <a:endParaRPr b="1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934320" cy="5202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>
            <a:off x="6705720" y="1676520"/>
            <a:ext cx="0" cy="4038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3200400"/>
            <a:ext cx="83808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1440" y="179064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</a:rPr>
              <a:t>IRS Target Criter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tsoifer</cp:lastModifiedBy>
  <cp:lastPrinted>2001-05-29T18:39:33Z</cp:lastPrinted>
  <dcterms:modified xsi:type="dcterms:W3CDTF">2004-05-30T04:02:19Z</dcterms:modified>
  <cp:revision>183</cp:revision>
  <dc:subject/>
  <dc:title>SSC Progress Report</dc:title>
</cp:coreProperties>
</file>