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6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0557-C657-41A9-B671-DC221FB15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 slide with Lya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358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358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3358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358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3358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3358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3358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3480" y="43358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8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3358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3358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3480" y="43358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3358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5920" y="43358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4280" y="433584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358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3358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3584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0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6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76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219320"/>
            <a:ext cx="8229600" cy="152280"/>
          </a:xfrm>
          <a:prstGeom prst="rect">
            <a:avLst/>
          </a:prstGeom>
          <a:solidFill>
            <a:srgbClr val="76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308640" y="1407960"/>
            <a:ext cx="237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1848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867280" y="13712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0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6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76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0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60000"/>
                </a:solidFill>
                <a:latin typeface="Times New Roman"/>
              </a:rPr>
              <a:t>Spectroscopic Properties of the z=4.5 Ly</a:t>
            </a:r>
            <a:r>
              <a:rPr b="0" i="1" lang="en-US" sz="4400" spc="-1" strike="noStrike">
                <a:solidFill>
                  <a:srgbClr val="760000"/>
                </a:solidFill>
                <a:latin typeface="Symbol"/>
                <a:ea typeface="Symbol"/>
              </a:rPr>
              <a:t></a:t>
            </a:r>
            <a:r>
              <a:rPr b="0" i="1" lang="en-US" sz="4400" spc="-1" strike="noStrike">
                <a:solidFill>
                  <a:srgbClr val="760000"/>
                </a:solidFill>
                <a:latin typeface="Times New Roman"/>
              </a:rPr>
              <a:t>-Emitters</a:t>
            </a: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981080"/>
            <a:ext cx="6096240" cy="152640"/>
          </a:xfrm>
          <a:prstGeom prst="rect">
            <a:avLst/>
          </a:prstGeom>
          <a:solidFill>
            <a:srgbClr val="76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58128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84360" y="42274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47440" y="2687760"/>
            <a:ext cx="3366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 Dawso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C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llaboration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jun De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NO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ell Jannuzi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NOA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geeta Malhotr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S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Rhoad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TS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ron Spinra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UC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iel Ster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J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357800" y="2824200"/>
            <a:ext cx="4179240" cy="3231720"/>
            <a:chOff x="4357800" y="2824200"/>
            <a:chExt cx="4179240" cy="323172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4357800" y="2824200"/>
              <a:ext cx="4179240" cy="32317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94" name=""/>
            <p:cNvSpPr/>
            <p:nvPr/>
          </p:nvSpPr>
          <p:spPr>
            <a:xfrm>
              <a:off x="5102640" y="3077280"/>
              <a:ext cx="366480" cy="24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Ly</a:t>
              </a: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00960" y="4344120"/>
              <a:ext cx="366480" cy="24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Ly</a:t>
              </a: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02640" y="4344120"/>
              <a:ext cx="366480" cy="24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Ly</a:t>
              </a: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00960" y="3077280"/>
              <a:ext cx="366480" cy="24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Ly</a:t>
              </a: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70600" y="3077280"/>
              <a:ext cx="460800" cy="24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z=4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70600" y="4344120"/>
              <a:ext cx="460800" cy="24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z=4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47760" y="4344120"/>
              <a:ext cx="460800" cy="24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z=4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47760" y="3077280"/>
              <a:ext cx="460800" cy="24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z=4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5727960" y="6048360"/>
            <a:ext cx="29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ck/DEIMOS (Dawson et al. 2004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0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4154400" y="171360"/>
            <a:ext cx="4743360" cy="3467160"/>
            <a:chOff x="4154400" y="171360"/>
            <a:chExt cx="4743360" cy="3467160"/>
          </a:xfrm>
        </p:grpSpPr>
        <p:grpSp>
          <p:nvGrpSpPr>
            <p:cNvPr id="104" name=""/>
            <p:cNvGrpSpPr/>
            <p:nvPr/>
          </p:nvGrpSpPr>
          <p:grpSpPr>
            <a:xfrm>
              <a:off x="4595760" y="171360"/>
              <a:ext cx="4302000" cy="3467160"/>
              <a:chOff x="4595760" y="171360"/>
              <a:chExt cx="4302000" cy="34671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1"/>
              <a:srcRect l="34413" t="34074" r="0" b="0"/>
              <a:stretch/>
            </p:blipFill>
            <p:spPr>
              <a:xfrm>
                <a:off x="4595760" y="171360"/>
                <a:ext cx="4302000" cy="3467160"/>
              </a:xfrm>
              <a:prstGeom prst="rect">
                <a:avLst/>
              </a:prstGeom>
              <a:ln w="25560">
                <a:solidFill>
                  <a:srgbClr val="000000"/>
                </a:solidFill>
                <a:miter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5130360" y="2854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Ly</a:t>
                </a:r>
                <a:r>
                  <a:rPr b="1" lang="en-US" sz="1600" spc="-1" strike="noStrike">
                    <a:solidFill>
                      <a:srgbClr val="760000"/>
                    </a:solidFill>
                    <a:latin typeface="Symbol"/>
                    <a:ea typeface="Symbol"/>
                  </a:rPr>
                  <a:t>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340400" y="203832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Ly</a:t>
                </a:r>
                <a:r>
                  <a:rPr b="1" lang="en-US" sz="1600" spc="-1" strike="noStrike">
                    <a:solidFill>
                      <a:srgbClr val="760000"/>
                    </a:solidFill>
                    <a:latin typeface="Symbol"/>
                    <a:ea typeface="Symbol"/>
                  </a:rPr>
                  <a:t>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40400" y="2854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Ly</a:t>
                </a:r>
                <a:r>
                  <a:rPr b="1" lang="en-US" sz="1600" spc="-1" strike="noStrike">
                    <a:solidFill>
                      <a:srgbClr val="760000"/>
                    </a:solidFill>
                    <a:latin typeface="Symbol"/>
                    <a:ea typeface="Symbol"/>
                  </a:rPr>
                  <a:t>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32880" y="2038320"/>
                <a:ext cx="63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[OII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V="1">
              <a:off x="4154400" y="873360"/>
              <a:ext cx="454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mple individual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383000" y="3838680"/>
            <a:ext cx="4389480" cy="2833560"/>
            <a:chOff x="4383000" y="3838680"/>
            <a:chExt cx="4389480" cy="283356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848120" y="3838680"/>
              <a:ext cx="3924360" cy="283356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13" name=""/>
            <p:cNvSpPr/>
            <p:nvPr/>
          </p:nvSpPr>
          <p:spPr>
            <a:xfrm flipV="1">
              <a:off x="4383000" y="4581000"/>
              <a:ext cx="454680" cy="20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osite Ly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53880" y="130320"/>
            <a:ext cx="3654720" cy="6624720"/>
            <a:chOff x="353880" y="130320"/>
            <a:chExt cx="3654720" cy="6624720"/>
          </a:xfrm>
        </p:grpSpPr>
        <p:sp>
          <p:nvSpPr>
            <p:cNvPr id="115" name=""/>
            <p:cNvSpPr/>
            <p:nvPr/>
          </p:nvSpPr>
          <p:spPr>
            <a:xfrm>
              <a:off x="353880" y="139680"/>
              <a:ext cx="3429000" cy="661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eck/LRIS 400-line grat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760000"/>
                  </a:solidFill>
                  <a:latin typeface="Times New Roman"/>
                </a:rPr>
                <a:t>blaze</a:t>
              </a: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 = 850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dispersion = 1.86      / pi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</a:t>
              </a:r>
              <a:r>
                <a:rPr b="1" lang="en-US" sz="1600" spc="-1" strike="noStrike" baseline="-25000">
                  <a:solidFill>
                    <a:srgbClr val="760000"/>
                  </a:solidFill>
                  <a:latin typeface="Times New Roman"/>
                </a:rPr>
                <a:t>FWHM</a:t>
              </a: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 ~ 6       (~ 200 km s</a:t>
              </a:r>
              <a:r>
                <a:rPr b="1" lang="en-US" sz="1600" spc="-1" strike="noStrike" baseline="30000">
                  <a:solidFill>
                    <a:srgbClr val="760000"/>
                  </a:solidFill>
                  <a:latin typeface="Times New Roman"/>
                </a:rPr>
                <a:t>-1</a:t>
              </a: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eck/LRIS 150-line grat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760000"/>
                  </a:solidFill>
                  <a:latin typeface="Times New Roman"/>
                </a:rPr>
                <a:t>blaze</a:t>
              </a: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 = 7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dispersion = 4.8      / pi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</a:t>
              </a:r>
              <a:r>
                <a:rPr b="1" lang="en-US" sz="1600" spc="-1" strike="noStrike" baseline="-25000">
                  <a:solidFill>
                    <a:srgbClr val="760000"/>
                  </a:solidFill>
                  <a:latin typeface="Times New Roman"/>
                </a:rPr>
                <a:t>FWHM</a:t>
              </a: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 ~ 25      (~ 1000 km s</a:t>
              </a:r>
              <a:r>
                <a:rPr b="1" lang="en-US" sz="1600" spc="-1" strike="noStrike" baseline="30000">
                  <a:solidFill>
                    <a:srgbClr val="760000"/>
                  </a:solidFill>
                  <a:latin typeface="Times New Roman"/>
                </a:rPr>
                <a:t>-1</a:t>
              </a: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eck/DEIMOS 600-line grat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</a:t>
              </a:r>
              <a:r>
                <a:rPr b="1" lang="en-US" sz="1600" spc="-1" strike="noStrike" baseline="-25000">
                  <a:solidFill>
                    <a:srgbClr val="760000"/>
                  </a:solidFill>
                  <a:latin typeface="Times New Roman"/>
                </a:rPr>
                <a:t>blaze</a:t>
              </a: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 = 75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dispersion = 0.65      / pi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60000"/>
                  </a:solidFill>
                  <a:latin typeface="Symbol"/>
                  <a:ea typeface="Symbol"/>
                </a:rPr>
                <a:t></a:t>
              </a:r>
              <a:r>
                <a:rPr b="1" lang="en-US" sz="1600" spc="-1" strike="noStrike" baseline="-25000">
                  <a:solidFill>
                    <a:srgbClr val="760000"/>
                  </a:solidFill>
                  <a:latin typeface="Times New Roman"/>
                </a:rPr>
                <a:t>FWHM</a:t>
              </a: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 ~ 3.5      (~ 1000 km s</a:t>
              </a:r>
              <a:r>
                <a:rPr b="1" lang="en-US" sz="1600" spc="-1" strike="noStrike" baseline="30000">
                  <a:solidFill>
                    <a:srgbClr val="760000"/>
                  </a:solidFill>
                  <a:latin typeface="Times New Roman"/>
                </a:rPr>
                <a:t>-1</a:t>
              </a:r>
              <a:r>
                <a:rPr b="1" lang="en-US" sz="1600" spc="-1" strike="noStrike">
                  <a:solidFill>
                    <a:srgbClr val="76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~ 80 confirming Keck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selection reliability = 80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369880" y="1501920"/>
              <a:ext cx="326880" cy="371880"/>
              <a:chOff x="2369880" y="1501920"/>
              <a:chExt cx="326880" cy="371880"/>
            </a:xfrm>
          </p:grpSpPr>
          <p:sp>
            <p:nvSpPr>
              <p:cNvPr id="117" name=""/>
              <p:cNvSpPr/>
              <p:nvPr/>
            </p:nvSpPr>
            <p:spPr>
              <a:xfrm>
                <a:off x="2369880" y="15364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15600" y="150192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760000"/>
                    </a:solidFill>
                    <a:latin typeface="Times New Roman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923840" y="1203480"/>
              <a:ext cx="326880" cy="371880"/>
              <a:chOff x="1923840" y="1203480"/>
              <a:chExt cx="326880" cy="371880"/>
            </a:xfrm>
          </p:grpSpPr>
          <p:sp>
            <p:nvSpPr>
              <p:cNvPr id="120" name=""/>
              <p:cNvSpPr/>
              <p:nvPr/>
            </p:nvSpPr>
            <p:spPr>
              <a:xfrm>
                <a:off x="1923840" y="12380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69560" y="120348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760000"/>
                    </a:solidFill>
                    <a:latin typeface="Times New Roman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87440" y="3049560"/>
              <a:ext cx="326880" cy="372240"/>
              <a:chOff x="2287440" y="3049560"/>
              <a:chExt cx="326880" cy="3722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87440" y="30844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33160" y="304956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760000"/>
                    </a:solidFill>
                    <a:latin typeface="Times New Roman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1900080" y="1800360"/>
              <a:ext cx="326880" cy="371880"/>
              <a:chOff x="1900080" y="1800360"/>
              <a:chExt cx="326880" cy="3718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00080" y="183492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945800" y="180036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760000"/>
                    </a:solidFill>
                    <a:latin typeface="Times New Roman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1993680" y="3340080"/>
              <a:ext cx="326880" cy="372240"/>
              <a:chOff x="1993680" y="3340080"/>
              <a:chExt cx="326880" cy="372240"/>
            </a:xfrm>
          </p:grpSpPr>
          <p:sp>
            <p:nvSpPr>
              <p:cNvPr id="129" name=""/>
              <p:cNvSpPr/>
              <p:nvPr/>
            </p:nvSpPr>
            <p:spPr>
              <a:xfrm>
                <a:off x="1993680" y="33750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39400" y="334008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760000"/>
                    </a:solidFill>
                    <a:latin typeface="Times New Roman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900080" y="2751120"/>
              <a:ext cx="326880" cy="372240"/>
              <a:chOff x="1900080" y="2751120"/>
              <a:chExt cx="326880" cy="37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1900080" y="27860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45800" y="275112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760000"/>
                    </a:solidFill>
                    <a:latin typeface="Times New Roman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03280" y="130320"/>
              <a:ext cx="3505320" cy="6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760000"/>
                  </a:solidFill>
                  <a:uFillTx/>
                  <a:latin typeface="Times New Roman"/>
                </a:rPr>
                <a:t>Follow-up Spectrosco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Dawson et al. 2004a, 2004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927080" y="4300560"/>
              <a:ext cx="326880" cy="372240"/>
              <a:chOff x="1927080" y="4300560"/>
              <a:chExt cx="326880" cy="372240"/>
            </a:xfrm>
          </p:grpSpPr>
          <p:sp>
            <p:nvSpPr>
              <p:cNvPr id="136" name=""/>
              <p:cNvSpPr/>
              <p:nvPr/>
            </p:nvSpPr>
            <p:spPr>
              <a:xfrm>
                <a:off x="1927080" y="43354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72800" y="430056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760000"/>
                    </a:solidFill>
                    <a:latin typeface="Times New Roman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400120" y="4578480"/>
              <a:ext cx="326880" cy="371880"/>
              <a:chOff x="2400120" y="4578480"/>
              <a:chExt cx="326880" cy="371880"/>
            </a:xfrm>
          </p:grpSpPr>
          <p:sp>
            <p:nvSpPr>
              <p:cNvPr id="139" name=""/>
              <p:cNvSpPr/>
              <p:nvPr/>
            </p:nvSpPr>
            <p:spPr>
              <a:xfrm>
                <a:off x="2400120" y="46130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45840" y="457848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760000"/>
                    </a:solidFill>
                    <a:latin typeface="Times New Roman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033280" y="4886280"/>
              <a:ext cx="326880" cy="372240"/>
              <a:chOff x="2033280" y="4886280"/>
              <a:chExt cx="326880" cy="372240"/>
            </a:xfrm>
          </p:grpSpPr>
          <p:sp>
            <p:nvSpPr>
              <p:cNvPr id="142" name=""/>
              <p:cNvSpPr/>
              <p:nvPr/>
            </p:nvSpPr>
            <p:spPr>
              <a:xfrm>
                <a:off x="2033280" y="49212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76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79000" y="4886280"/>
                <a:ext cx="2325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760000"/>
                    </a:solidFill>
                    <a:latin typeface="Times New Roman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0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60000"/>
                </a:solidFill>
                <a:latin typeface="Times New Roman"/>
              </a:rPr>
              <a:t>Ensemble Results: EW Distribution</a:t>
            </a:r>
            <a:endParaRPr b="0" i="1" lang="en-US" sz="4400" spc="-1" strike="noStrike">
              <a:solidFill>
                <a:srgbClr val="76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3048120"/>
            <a:ext cx="3124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% - 35% of the Ly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mitters in the spectroscopic sample show EW &gt; 240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00"/>
                </a:solidFill>
                <a:latin typeface="Times New Roman"/>
              </a:rPr>
              <a:t>Normal star formation is not powering these sources.  What 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5960" y="1676520"/>
            <a:ext cx="28461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00"/>
                </a:solidFill>
                <a:latin typeface="Times New Roman"/>
              </a:rPr>
              <a:t>Max. Ly</a:t>
            </a:r>
            <a:r>
              <a:rPr b="1" lang="en-US" sz="2000" spc="-1" strike="noStrike">
                <a:solidFill>
                  <a:srgbClr val="76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760000"/>
                </a:solidFill>
                <a:latin typeface="Times New Roman"/>
              </a:rPr>
              <a:t> EW predi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00"/>
                </a:solidFill>
                <a:latin typeface="Times New Roman"/>
              </a:rPr>
              <a:t>for normal stellar p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60000"/>
                </a:solidFill>
                <a:latin typeface="Times New Roman"/>
              </a:rPr>
              <a:t>                  </a:t>
            </a:r>
            <a:r>
              <a:rPr b="1" lang="en-US" sz="1200" spc="-1" strike="noStrike">
                <a:solidFill>
                  <a:srgbClr val="760000"/>
                </a:solidFill>
                <a:latin typeface="Times New Roman"/>
              </a:rPr>
              <a:t>(Charlot &amp; Fall 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923840" cy="657360"/>
          </a:xfrm>
          <a:prstGeom prst="rect">
            <a:avLst/>
          </a:prstGeom>
          <a:ln w="25560">
            <a:solidFill>
              <a:srgbClr val="76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5191200" cy="3749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 flipH="1">
            <a:off x="3168720" y="2509920"/>
            <a:ext cx="488880" cy="819000"/>
          </a:xfrm>
          <a:prstGeom prst="line">
            <a:avLst/>
          </a:prstGeom>
          <a:ln w="38160">
            <a:solidFill>
              <a:srgbClr val="7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0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30120" y="5254560"/>
            <a:ext cx="2490840" cy="673200"/>
          </a:xfrm>
          <a:prstGeom prst="rect">
            <a:avLst/>
          </a:prstGeom>
          <a:solidFill>
            <a:srgbClr val="ffffff"/>
          </a:solidFill>
          <a:ln w="22320">
            <a:solidFill>
              <a:srgbClr val="7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760000"/>
                </a:solidFill>
                <a:latin typeface="Times New Roman"/>
              </a:rPr>
              <a:t>AGN Among the z = 4.5 Population?</a:t>
            </a:r>
            <a:endParaRPr b="0" i="1" lang="en-US" sz="4000" spc="-1" strike="noStrike">
              <a:solidFill>
                <a:srgbClr val="76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124080" y="1758960"/>
            <a:ext cx="5639040" cy="407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4419720" y="1600200"/>
            <a:ext cx="4343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65760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high-ionization state emission lines in spectra of restframe UV implies: </a:t>
            </a:r>
            <a:r>
              <a:rPr b="1" i="1" lang="en-US" sz="2000" spc="-1" strike="noStrike">
                <a:solidFill>
                  <a:srgbClr val="760000"/>
                </a:solidFill>
                <a:latin typeface="Times New Roman"/>
              </a:rPr>
              <a:t>no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733920" y="5537160"/>
            <a:ext cx="152280" cy="533520"/>
          </a:xfrm>
          <a:prstGeom prst="line">
            <a:avLst/>
          </a:prstGeom>
          <a:ln w="38160">
            <a:solidFill>
              <a:srgbClr val="7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400800" y="5537160"/>
            <a:ext cx="152280" cy="533520"/>
          </a:xfrm>
          <a:prstGeom prst="line">
            <a:avLst/>
          </a:prstGeom>
          <a:ln w="38160">
            <a:solidFill>
              <a:srgbClr val="76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9160" y="6070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detectable CIV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49 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6070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detectable HeII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640 e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280" y="1758960"/>
            <a:ext cx="263052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detectable X-ray emission (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rg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in deep Chandra ACIS imaging implies: </a:t>
            </a:r>
            <a:r>
              <a:rPr b="1" i="1" lang="en-US" sz="2000" spc="-1" strike="noStrike">
                <a:solidFill>
                  <a:srgbClr val="760000"/>
                </a:solidFill>
                <a:latin typeface="Times New Roman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ang et al. 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680" y="525456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(HeII) &lt; 0.13 f(Lya)   (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6600" y="559116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(CIV)  &lt; 0.08 f(Lya)   (2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21:48:41Z</dcterms:created>
  <dc:creator>sdawson</dc:creator>
  <dc:description/>
  <dc:language>en-US</dc:language>
  <cp:lastModifiedBy>sdawson</cp:lastModifiedBy>
  <dcterms:modified xsi:type="dcterms:W3CDTF">2004-06-03T23:44:27Z</dcterms:modified>
  <cp:revision>632</cp:revision>
  <dc:subject/>
  <dc:title>Slide 1</dc:title>
</cp:coreProperties>
</file>