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004d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E846-3866-4F03-AD43-B8D60B2B8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al of this project is to find primitive galaxies at very high redshifts and thereby directly study early galaxy and star formation.   (could comment on the line as a good indicator of the unevolved population if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FD0A-1258-403A-B591-9D04A725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785-0429-412E-BD2C-CCB304AB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F1DE-337B-42DD-8A25-27012739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5975-13C6-45AE-A809-9BDE520B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9A46-319E-4B18-8B0E-A4CB014B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CD1-3811-4481-A05E-E9CC8A7E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0985-9955-4AAB-A1F8-D008EC17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324-4F69-45A0-907E-A87ED7BB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3D3B-DB05-4681-B12D-B01C490F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545C-BF23-41B0-842C-E62217D7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8A6-5FD2-4B9C-BC67-44093650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7B6A-CC4B-4EFA-ACE8-1AB45B32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004d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7FB5-AF36-4EE0-9E4B-433F08849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004d"/>
                </a:solidFill>
                <a:latin typeface="Times New Roman"/>
              </a:rPr>
              <a:t>Lyman-</a:t>
            </a:r>
            <a:r>
              <a:rPr b="0" lang="en-US" sz="3600" spc="-1" strike="noStrike">
                <a:solidFill>
                  <a:srgbClr val="d5004d"/>
                </a:solidFill>
                <a:latin typeface="Times New Roman"/>
                <a:ea typeface="Times New Roman"/>
              </a:rPr>
              <a:t>α </a:t>
            </a:r>
            <a:r>
              <a:rPr b="0" lang="en-US" sz="3600" spc="-1" strike="noStrike">
                <a:solidFill>
                  <a:srgbClr val="d5004d"/>
                </a:solidFill>
                <a:latin typeface="Times New Roman"/>
              </a:rPr>
              <a:t>Galaxies at High Redshift</a:t>
            </a: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mes E. Rh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pace Telescope Science Institu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geeta Malhotr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ve Dawson, Arjun Dey, Buell Jannuzi, Emily Landes, Hy Spinrad, Dan Stern, JunXian Wang, and Chun X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004d"/>
                </a:solidFill>
                <a:latin typeface="Times New Roman"/>
              </a:rPr>
              <a:t>Physical properties of this galaxy</a:t>
            </a: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luminosity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rg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formation rate: 11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Lyma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line + Kennicutt IMF + Case B recombination… Some modelling uncertai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t width &gt; 530Å observer frame (2σ lower bound from photomet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 frame &gt; 70 Å (naive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sting  z’ flux to account for IGM absorption under Madau’s (1995) prescription gives &gt; 40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tially unresolved in 1” see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&lt; 6 kp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004d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d5004d"/>
                </a:solidFill>
                <a:latin typeface="Times New Roman"/>
              </a:rPr>
              <a:t>May you live in interesting times…”</a:t>
            </a: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z = 6.5 universe was just 6% of its present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over, this precedes the redshift of the SDSS quasars with Gunn-Peterson troug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us the 92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 affords a view of late reioniz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The Lyman-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α ReionizationTes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52480" y="1981080"/>
            <a:ext cx="15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33160" y="4191120"/>
            <a:ext cx="461880" cy="156960"/>
            <a:chOff x="533160" y="4191120"/>
            <a:chExt cx="461880" cy="156960"/>
          </a:xfrm>
        </p:grpSpPr>
        <p:sp>
          <p:nvSpPr>
            <p:cNvPr id="92" name=""/>
            <p:cNvSpPr/>
            <p:nvPr/>
          </p:nvSpPr>
          <p:spPr>
            <a:xfrm flipH="1">
              <a:off x="533160" y="4268880"/>
              <a:ext cx="461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33160" y="4191120"/>
              <a:ext cx="91800" cy="77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533160" y="4268880"/>
              <a:ext cx="91800" cy="79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777960" y="3711600"/>
            <a:ext cx="31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3809880"/>
            <a:ext cx="3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44360" y="3720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3886200"/>
            <a:ext cx="843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0640" y="3962520"/>
            <a:ext cx="67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93640" y="38768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51280" y="2306520"/>
            <a:ext cx="9367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13560" y="2316240"/>
            <a:ext cx="152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onized IG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2720" y="23162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69000" y="3867120"/>
            <a:ext cx="107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17240" y="3876840"/>
            <a:ext cx="15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rbu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08320" y="38768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886200"/>
            <a:ext cx="3448080" cy="4680"/>
          </a:xfrm>
          <a:custGeom>
            <a:avLst/>
            <a:gdLst/>
            <a:ahLst/>
            <a:rect l="l" t="t" r="r" b="b"/>
            <a:pathLst>
              <a:path w="2172" h="3">
                <a:moveTo>
                  <a:pt x="2172" y="0"/>
                </a:moveTo>
                <a:lnTo>
                  <a:pt x="0" y="3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0720" y="358128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40384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Lyman α phot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0720" y="373392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0720" y="388620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752120" y="3505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752120" y="36576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3809880"/>
            <a:ext cx="3429000" cy="1800"/>
          </a:xfrm>
          <a:custGeom>
            <a:avLst/>
            <a:gdLst/>
            <a:ahLst/>
            <a:rect l="l" t="t" r="r" b="b"/>
            <a:pathLst>
              <a:path w="2160" h="1">
                <a:moveTo>
                  <a:pt x="216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27874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inuum Phot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3733920"/>
            <a:ext cx="3448080" cy="4680"/>
          </a:xfrm>
          <a:custGeom>
            <a:avLst/>
            <a:gdLst/>
            <a:ahLst/>
            <a:rect l="l" t="t" r="r" b="b"/>
            <a:pathLst>
              <a:path w="2172" h="3">
                <a:moveTo>
                  <a:pt x="2172" y="0"/>
                </a:moveTo>
                <a:lnTo>
                  <a:pt x="0" y="3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3581280"/>
            <a:ext cx="3448080" cy="5040"/>
          </a:xfrm>
          <a:custGeom>
            <a:avLst/>
            <a:gdLst/>
            <a:ahLst/>
            <a:rect l="l" t="t" r="r" b="b"/>
            <a:pathLst>
              <a:path w="2172" h="3">
                <a:moveTo>
                  <a:pt x="2172" y="0"/>
                </a:moveTo>
                <a:lnTo>
                  <a:pt x="0" y="3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3429000"/>
            <a:ext cx="457200" cy="533520"/>
          </a:xfrm>
          <a:custGeom>
            <a:avLst/>
            <a:gdLst>
              <a:gd name="textAreaLeft" fmla="*/ 104400 w 457200"/>
              <a:gd name="textAreaRight" fmla="*/ 352800 w 45720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3429000"/>
            <a:ext cx="3448080" cy="4680"/>
          </a:xfrm>
          <a:custGeom>
            <a:avLst/>
            <a:gdLst/>
            <a:ahLst/>
            <a:rect l="l" t="t" r="r" b="b"/>
            <a:pathLst>
              <a:path w="2172" h="3">
                <a:moveTo>
                  <a:pt x="2172" y="0"/>
                </a:moveTo>
                <a:lnTo>
                  <a:pt x="0" y="3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980720" y="342900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The Lyman-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α Reionization Tes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752480" y="1981080"/>
            <a:ext cx="152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33160" y="4191120"/>
            <a:ext cx="461880" cy="156960"/>
            <a:chOff x="533160" y="4191120"/>
            <a:chExt cx="461880" cy="156960"/>
          </a:xfrm>
        </p:grpSpPr>
        <p:sp>
          <p:nvSpPr>
            <p:cNvPr id="126" name=""/>
            <p:cNvSpPr/>
            <p:nvPr/>
          </p:nvSpPr>
          <p:spPr>
            <a:xfrm flipH="1">
              <a:off x="533160" y="4268880"/>
              <a:ext cx="461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33160" y="4191120"/>
              <a:ext cx="91800" cy="77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533160" y="4268880"/>
              <a:ext cx="91800" cy="79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77960" y="3711600"/>
            <a:ext cx="31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809880"/>
            <a:ext cx="3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44360" y="3720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3886200"/>
            <a:ext cx="843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0640" y="3962520"/>
            <a:ext cx="67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93640" y="38768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51280" y="2306520"/>
            <a:ext cx="9367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13560" y="2316240"/>
            <a:ext cx="152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utral IG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52720" y="23162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3867120"/>
            <a:ext cx="107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17240" y="3876840"/>
            <a:ext cx="15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rbur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8320" y="38768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2971800"/>
            <a:ext cx="4645080" cy="1857240"/>
          </a:xfrm>
          <a:custGeom>
            <a:avLst/>
            <a:gdLst/>
            <a:ahLst/>
            <a:rect l="l" t="t" r="r" b="b"/>
            <a:pathLst>
              <a:path w="2926" h="1170">
                <a:moveTo>
                  <a:pt x="2350" y="621"/>
                </a:moveTo>
                <a:lnTo>
                  <a:pt x="2761" y="978"/>
                </a:lnTo>
                <a:lnTo>
                  <a:pt x="2926" y="0"/>
                </a:lnTo>
                <a:lnTo>
                  <a:pt x="1742" y="203"/>
                </a:lnTo>
                <a:lnTo>
                  <a:pt x="1742" y="299"/>
                </a:lnTo>
                <a:lnTo>
                  <a:pt x="1934" y="203"/>
                </a:lnTo>
                <a:lnTo>
                  <a:pt x="1742" y="539"/>
                </a:lnTo>
                <a:lnTo>
                  <a:pt x="1742" y="923"/>
                </a:lnTo>
                <a:lnTo>
                  <a:pt x="2268" y="813"/>
                </a:lnTo>
                <a:lnTo>
                  <a:pt x="2030" y="1019"/>
                </a:lnTo>
                <a:lnTo>
                  <a:pt x="2030" y="731"/>
                </a:lnTo>
                <a:lnTo>
                  <a:pt x="1598" y="827"/>
                </a:lnTo>
                <a:lnTo>
                  <a:pt x="1694" y="1019"/>
                </a:lnTo>
                <a:lnTo>
                  <a:pt x="1886" y="971"/>
                </a:lnTo>
                <a:lnTo>
                  <a:pt x="1838" y="1163"/>
                </a:lnTo>
                <a:lnTo>
                  <a:pt x="1152" y="731"/>
                </a:lnTo>
                <a:lnTo>
                  <a:pt x="896" y="1170"/>
                </a:lnTo>
                <a:lnTo>
                  <a:pt x="0" y="117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0080" y="2209680"/>
            <a:ext cx="3600720" cy="2286000"/>
          </a:xfrm>
          <a:custGeom>
            <a:avLst/>
            <a:gdLst/>
            <a:ahLst/>
            <a:rect l="l" t="t" r="r" b="b"/>
            <a:pathLst>
              <a:path w="2268" h="1440">
                <a:moveTo>
                  <a:pt x="2268" y="699"/>
                </a:moveTo>
                <a:lnTo>
                  <a:pt x="2231" y="453"/>
                </a:lnTo>
                <a:lnTo>
                  <a:pt x="1623" y="624"/>
                </a:lnTo>
                <a:lnTo>
                  <a:pt x="1671" y="1440"/>
                </a:lnTo>
                <a:lnTo>
                  <a:pt x="951" y="576"/>
                </a:lnTo>
                <a:lnTo>
                  <a:pt x="951" y="960"/>
                </a:lnTo>
                <a:lnTo>
                  <a:pt x="1095" y="288"/>
                </a:lnTo>
                <a:lnTo>
                  <a:pt x="1575" y="768"/>
                </a:lnTo>
                <a:lnTo>
                  <a:pt x="1719" y="0"/>
                </a:lnTo>
                <a:lnTo>
                  <a:pt x="1767" y="480"/>
                </a:lnTo>
                <a:lnTo>
                  <a:pt x="2007" y="336"/>
                </a:lnTo>
                <a:lnTo>
                  <a:pt x="1408" y="14"/>
                </a:lnTo>
                <a:lnTo>
                  <a:pt x="0" y="14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1880" y="2895480"/>
            <a:ext cx="3352680" cy="1486080"/>
          </a:xfrm>
          <a:custGeom>
            <a:avLst/>
            <a:gdLst/>
            <a:ahLst/>
            <a:rect l="l" t="t" r="r" b="b"/>
            <a:pathLst>
              <a:path w="2112" h="936">
                <a:moveTo>
                  <a:pt x="2112" y="489"/>
                </a:moveTo>
                <a:lnTo>
                  <a:pt x="1976" y="359"/>
                </a:lnTo>
                <a:lnTo>
                  <a:pt x="1085" y="144"/>
                </a:lnTo>
                <a:lnTo>
                  <a:pt x="1181" y="0"/>
                </a:lnTo>
                <a:lnTo>
                  <a:pt x="1646" y="936"/>
                </a:lnTo>
                <a:lnTo>
                  <a:pt x="0" y="928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2880" y="4876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Lyman α phot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747440" y="222876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752120" y="482616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752120" y="3505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752120" y="36576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3809880"/>
            <a:ext cx="3429000" cy="1800"/>
          </a:xfrm>
          <a:custGeom>
            <a:avLst/>
            <a:gdLst/>
            <a:ahLst/>
            <a:rect l="l" t="t" r="r" b="b"/>
            <a:pathLst>
              <a:path w="2160" h="1">
                <a:moveTo>
                  <a:pt x="2160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28195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inuum Phot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5257800"/>
            <a:ext cx="594360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Miralda-Escude 1998; Miralda-Escude &amp; Rees 199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iman &amp; Spaans 1999; Loeb &amp; Rybicki 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30320" y="2705040"/>
            <a:ext cx="3575160" cy="1281240"/>
          </a:xfrm>
          <a:custGeom>
            <a:avLst/>
            <a:gdLst/>
            <a:ahLst/>
            <a:rect l="l" t="t" r="r" b="b"/>
            <a:pathLst>
              <a:path w="2252" h="807">
                <a:moveTo>
                  <a:pt x="2252" y="648"/>
                </a:moveTo>
                <a:lnTo>
                  <a:pt x="2088" y="648"/>
                </a:lnTo>
                <a:lnTo>
                  <a:pt x="1931" y="777"/>
                </a:lnTo>
                <a:lnTo>
                  <a:pt x="1187" y="807"/>
                </a:lnTo>
                <a:lnTo>
                  <a:pt x="1178" y="453"/>
                </a:lnTo>
                <a:lnTo>
                  <a:pt x="1432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4120" y="3429000"/>
            <a:ext cx="457200" cy="533520"/>
          </a:xfrm>
          <a:custGeom>
            <a:avLst/>
            <a:gdLst>
              <a:gd name="textAreaLeft" fmla="*/ 104400 w 457200"/>
              <a:gd name="textAreaRight" fmla="*/ 352800 w 457200"/>
              <a:gd name="textAreaTop" fmla="*/ 121680 h 533520"/>
              <a:gd name="textAreaBottom" fmla="*/ 411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676160" y="436896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52120" y="2705040"/>
            <a:ext cx="228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004d"/>
                </a:solidFill>
                <a:latin typeface="Times New Roman"/>
              </a:rPr>
              <a:t>Constraining Reionization with LALA</a:t>
            </a: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791320" y="1371600"/>
            <a:ext cx="3200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m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emitters at z=5.7 and 6.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</a:t>
            </a:r>
            <a:r>
              <a:rPr b="0" lang="en-US" sz="2400" spc="-1" strike="noStrike">
                <a:solidFill>
                  <a:srgbClr val="d5004d"/>
                </a:solidFill>
                <a:latin typeface="Times New Roman"/>
              </a:rPr>
              <a:t> z</a:t>
            </a:r>
            <a:r>
              <a:rPr b="0" lang="en-US" sz="2400" spc="-1" strike="noStrike" baseline="-25000">
                <a:solidFill>
                  <a:srgbClr val="d5004d"/>
                </a:solidFill>
                <a:latin typeface="Times New Roman"/>
              </a:rPr>
              <a:t>re</a:t>
            </a:r>
            <a:r>
              <a:rPr b="0" lang="en-US" sz="2400" spc="-1" strike="noStrike">
                <a:solidFill>
                  <a:srgbClr val="d5004d"/>
                </a:solidFill>
                <a:latin typeface="Times New Roman"/>
              </a:rPr>
              <a:t> &gt; 6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hoads &amp; Malhotra 2001; ApJ Lett 563, L5; Hu et al 2002; Rhoads et al 2003; Rhoads et al 20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equiv. width of the LALA obj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e attenuation factor is a few at m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fig_57v1rt" descr=""/>
          <p:cNvPicPr/>
          <p:nvPr/>
        </p:nvPicPr>
        <p:blipFill>
          <a:blip r:embed="rId2"/>
          <a:stretch/>
        </p:blipFill>
        <p:spPr>
          <a:xfrm>
            <a:off x="685800" y="1371600"/>
            <a:ext cx="5334120" cy="4975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943600" y="5715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: z=5.7 Ly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sources from Rhoads et al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004d"/>
                </a:solidFill>
                <a:latin typeface="Times New Roman"/>
              </a:rPr>
              <a:t>Charting Reionization</a:t>
            </a: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evidence: Combine the Lyman α and Gunn-Peterson tests so far to study the evolution of the mass avgeraged neutral fraction,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2743200"/>
            <a:ext cx="213372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contradiction between the GP effect at z=6.2 and the Ly α at z=6.5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gure from Rhoads et al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rei_sum_v1r" descr=""/>
          <p:cNvPicPr/>
          <p:nvPr/>
        </p:nvPicPr>
        <p:blipFill>
          <a:blip r:embed="rId2"/>
          <a:stretch/>
        </p:blipFill>
        <p:spPr>
          <a:xfrm>
            <a:off x="1066680" y="2438280"/>
            <a:ext cx="533412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004d"/>
                </a:solidFill>
                <a:latin typeface="Times New Roman"/>
              </a:rPr>
              <a:t>Lyman </a:t>
            </a:r>
            <a:r>
              <a:rPr b="0" lang="en-US" sz="3600" spc="-1" strike="noStrike">
                <a:solidFill>
                  <a:srgbClr val="d5004d"/>
                </a:solidFill>
                <a:latin typeface="Times New Roman"/>
                <a:ea typeface="Times New Roman"/>
              </a:rPr>
              <a:t>α Test Details</a:t>
            </a: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I reg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&gt;1.2 pMp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e center 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dual neutrals in HII region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 &lt; 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red wing of lines (Haiman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ution affects galaxy counts… LBG comparison samples could resolve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 motions alter Ly-α radiative transfer (Santos 200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tom 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actors of ~ 3 reduction in Ly-α luminosity are unavoidable in neutral universe.  Reduction larger in many models but no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004d"/>
                </a:solidFill>
                <a:latin typeface="Times New Roman"/>
              </a:rPr>
              <a:t>Star Formation and Metal Production</a:t>
            </a: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LF constraint from HCM 6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~3e-2 Msun/yr/Mp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r formation,  and ~ 200 Msun/Myr/Mp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metal production…  comparable to z ~ 4 numbers from UV continuu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instead lens+blank slit data of Santos et al could reduce both numbers by a factor ~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SFRD estimates of 5.2e-4 (Kodaira et al, z=6.5 Ly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sample); 4.6e-4 (Stanway et al, z ~ 6 LBG sample); neither integrates a LF much below the observed lim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ual conclusion: More good data wan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004d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yman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provides an efficient way of finding young galaxies at high redshi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galaxies afford a new probe of reionization, complementing the Gunn-Peterson t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-α from LALA z=6.535 galaxy requires either a largely ionized IGM, or an intrinsic redshift of the line relative to systemic veloc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aining uncertainties in Lyman-α reionization test can be overcome using statistical s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004d"/>
                </a:solidFill>
                <a:latin typeface="Times New Roman"/>
              </a:rPr>
              <a:t>Lyman </a:t>
            </a:r>
            <a:r>
              <a:rPr b="0" lang="en-US" sz="3600" spc="-1" strike="noStrike">
                <a:solidFill>
                  <a:srgbClr val="d5004d"/>
                </a:solidFill>
                <a:latin typeface="Times New Roman"/>
                <a:ea typeface="Times New Roman"/>
              </a:rPr>
              <a:t>α as a Signpost of</a:t>
            </a:r>
            <a:r>
              <a:rPr b="0" lang="en-US" sz="3600" spc="-1" strike="noStrike">
                <a:solidFill>
                  <a:srgbClr val="d5004d"/>
                </a:solidFill>
                <a:latin typeface="Times New Roman"/>
              </a:rPr>
              <a:t> Primordial Galaxies</a:t>
            </a: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looking for the first galaxies to form from primordial gas.  Such objects should hav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ng stars, with high ultraviolet luminos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e amounts of 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low abundances of heavy elements, imp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s that are hotter than “normal” (for fixed mas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dust abund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004d"/>
                </a:solidFill>
                <a:latin typeface="Times New Roman"/>
              </a:rPr>
              <a:t>Lyman </a:t>
            </a:r>
            <a:r>
              <a:rPr b="0" lang="en-US" sz="3600" spc="-1" strike="noStrike">
                <a:solidFill>
                  <a:srgbClr val="d5004d"/>
                </a:solidFill>
                <a:latin typeface="Times New Roman"/>
                <a:ea typeface="Times New Roman"/>
              </a:rPr>
              <a:t>α Line Emission</a:t>
            </a: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izing flux + gas → 2 Lyman α photons for every 3 ionizing photons absorbed by hydro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rinciple, up to 6-7% of a young galaxy’s luminosity may emerge in the Lyman α line (for a Salpeter IMF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004d"/>
                </a:solidFill>
                <a:latin typeface="Times New Roman"/>
              </a:rPr>
              <a:t>The Narrowband Search Method</a:t>
            </a: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72200" y="1600200"/>
            <a:ext cx="2666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take pictures of a large area of sky in both broad and narrow fil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ission line sources appear bright in narrow filters (demand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lue “veto filter” eliminates foreground emission line objects (demand &lt;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fg_4_28712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5486400" cy="4724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76720" y="4551480"/>
            <a:ext cx="1523880" cy="152280"/>
          </a:xfrm>
          <a:prstGeom prst="rect">
            <a:avLst/>
          </a:prstGeom>
          <a:solidFill>
            <a:srgbClr val="66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4680000"/>
            <a:ext cx="304920" cy="152280"/>
          </a:xfrm>
          <a:prstGeom prst="rect">
            <a:avLst/>
          </a:prstGeom>
          <a:solidFill>
            <a:srgbClr val="00009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4789440"/>
            <a:ext cx="304920" cy="152280"/>
          </a:xfrm>
          <a:prstGeom prst="rect">
            <a:avLst/>
          </a:prstGeom>
          <a:solidFill>
            <a:srgbClr val="00009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4898880"/>
            <a:ext cx="304560" cy="152640"/>
          </a:xfrm>
          <a:prstGeom prst="rect">
            <a:avLst/>
          </a:prstGeom>
          <a:solidFill>
            <a:srgbClr val="00009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2743200"/>
            <a:ext cx="304920" cy="152280"/>
          </a:xfrm>
          <a:prstGeom prst="rect">
            <a:avLst/>
          </a:prstGeom>
          <a:solidFill>
            <a:srgbClr val="00009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851200"/>
            <a:ext cx="304560" cy="152280"/>
          </a:xfrm>
          <a:prstGeom prst="rect">
            <a:avLst/>
          </a:prstGeom>
          <a:solidFill>
            <a:srgbClr val="00009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4800600"/>
            <a:ext cx="1447920" cy="152280"/>
          </a:xfrm>
          <a:prstGeom prst="rect">
            <a:avLst/>
          </a:prstGeom>
          <a:solidFill>
            <a:srgbClr val="00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004d"/>
                </a:solidFill>
                <a:latin typeface="Times New Roman"/>
              </a:rPr>
              <a:t>Windows for Narrowband Surveys</a:t>
            </a:r>
            <a:endParaRPr b="0" lang="en-US" sz="3200" spc="-1" strike="noStrike">
              <a:solidFill>
                <a:srgbClr val="d5004d"/>
              </a:solidFill>
              <a:latin typeface="Times New Roman"/>
            </a:endParaRPr>
          </a:p>
        </p:txBody>
      </p:sp>
      <p:pic>
        <p:nvPicPr>
          <p:cNvPr id="65" name="skyspec_r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6400800" cy="4754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10280" y="2286000"/>
            <a:ext cx="19051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lines mark our survey filter waveleng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searches are highly efficient in far r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004d"/>
                </a:solidFill>
                <a:latin typeface="Times New Roman"/>
              </a:rPr>
              <a:t>The Large Area Lyman Alpha Survey  (LALA): an Overview</a:t>
            </a: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09480" y="1600200"/>
          <a:ext cx="8153640" cy="3346560"/>
        </p:xfrm>
        <a:graphic>
          <a:graphicData uri="http://schemas.openxmlformats.org/drawingml/2006/table">
            <a:tbl>
              <a:tblPr/>
              <a:tblGrid>
                <a:gridCol w="1044720"/>
                <a:gridCol w="2298600"/>
                <a:gridCol w="2524320"/>
                <a:gridCol w="22860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;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u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si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didates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troscopic Success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c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/2 in Boot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7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ergs/s/c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; &gt; 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c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/3 in Boot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ergs/s/c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50; ~ 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c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ll in Boot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x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ergs/s/c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; 1 of  3  confirm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laalaa_1" descr=""/>
          <p:cNvPicPr/>
          <p:nvPr/>
        </p:nvPicPr>
        <p:blipFill>
          <a:blip r:embed="rId2"/>
          <a:stretch/>
        </p:blipFill>
        <p:spPr>
          <a:xfrm>
            <a:off x="-380880" y="0"/>
            <a:ext cx="2209680" cy="2031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38080" y="5029200"/>
            <a:ext cx="77724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=4.5: Rhoads et al 2000, Malhotra &amp; Rhoads 2002, Dawson et al 2004 in pre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=5.7: Rhoads &amp; Malhotra 2001, Rhoads et al 2003, Wang et al 2004 in pre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=6.5: Rhoads et al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004d"/>
                </a:solidFill>
                <a:latin typeface="Times New Roman"/>
              </a:rPr>
              <a:t>Physical Nature of Ly-</a:t>
            </a:r>
            <a:r>
              <a:rPr b="0" lang="en-US" sz="3600" spc="-1" strike="noStrike">
                <a:solidFill>
                  <a:srgbClr val="d5004d"/>
                </a:solidFill>
                <a:latin typeface="Times New Roman"/>
                <a:ea typeface="Times New Roman"/>
              </a:rPr>
              <a:t>α Galaxies</a:t>
            </a: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young star forming galax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equivalent widths require youth, plus either low metallicity or top-heavy IMF (Malhotra &amp; Rhoads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N are ruled out by a combination of X-ray observations (see JunXian Wang’s talk [48.14] in this session) and optical spectroscopy (see Steve Dawson’s talk [48.04] in this sess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004d"/>
                </a:solidFill>
                <a:latin typeface="Times New Roman"/>
              </a:rPr>
              <a:t>Candidate z=6.5 LALA galaxies</a:t>
            </a: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pic>
        <p:nvPicPr>
          <p:cNvPr id="74" name="gemwin_image" descr=""/>
          <p:cNvPicPr/>
          <p:nvPr/>
        </p:nvPicPr>
        <p:blipFill>
          <a:blip r:embed="rId2"/>
          <a:stretch/>
        </p:blipFill>
        <p:spPr>
          <a:xfrm>
            <a:off x="838080" y="1600200"/>
            <a:ext cx="4114800" cy="1376280"/>
          </a:xfrm>
          <a:prstGeom prst="rect">
            <a:avLst/>
          </a:prstGeom>
          <a:ln w="0">
            <a:noFill/>
          </a:ln>
        </p:spPr>
      </p:pic>
      <p:pic>
        <p:nvPicPr>
          <p:cNvPr id="75" name="keckwin_image" descr=""/>
          <p:cNvPicPr/>
          <p:nvPr/>
        </p:nvPicPr>
        <p:blipFill>
          <a:blip r:embed="rId3"/>
          <a:stretch/>
        </p:blipFill>
        <p:spPr>
          <a:xfrm>
            <a:off x="838080" y="3809880"/>
            <a:ext cx="4114800" cy="1378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8080" y="3048120"/>
            <a:ext cx="4038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DWF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z’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D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9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54864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data from NOAO 4m telescopes; NB918 stack is 24 hours’ integ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gemwin_minispec2" descr=""/>
          <p:cNvPicPr/>
          <p:nvPr/>
        </p:nvPicPr>
        <p:blipFill>
          <a:blip r:embed="rId4"/>
          <a:stretch/>
        </p:blipFill>
        <p:spPr>
          <a:xfrm>
            <a:off x="5410080" y="1523880"/>
            <a:ext cx="2925720" cy="2133720"/>
          </a:xfrm>
          <a:prstGeom prst="rect">
            <a:avLst/>
          </a:prstGeom>
          <a:ln w="0">
            <a:noFill/>
          </a:ln>
        </p:spPr>
      </p:pic>
      <p:pic>
        <p:nvPicPr>
          <p:cNvPr id="79" name="keckwin_minispec2" descr=""/>
          <p:cNvPicPr/>
          <p:nvPr/>
        </p:nvPicPr>
        <p:blipFill>
          <a:blip r:embed="rId5"/>
          <a:stretch/>
        </p:blipFill>
        <p:spPr>
          <a:xfrm>
            <a:off x="5410080" y="3733920"/>
            <a:ext cx="292572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5004d"/>
                </a:solidFill>
                <a:latin typeface="Times New Roman"/>
              </a:rPr>
              <a:t>LALA </a:t>
            </a:r>
            <a:r>
              <a:rPr b="0" lang="en-US" sz="3600" spc="-1" strike="noStrike">
                <a:solidFill>
                  <a:srgbClr val="d5004d"/>
                </a:solidFill>
                <a:latin typeface="Times New Roman"/>
                <a:ea typeface="Times New Roman"/>
              </a:rPr>
              <a:t>J142442.24+353400.2</a:t>
            </a:r>
            <a:r>
              <a:rPr b="0" lang="en-US" sz="3600" spc="-1" strike="noStrike">
                <a:solidFill>
                  <a:srgbClr val="d5004d"/>
                </a:solidFill>
                <a:latin typeface="Times New Roman"/>
              </a:rPr>
              <a:t>  at z=6.535</a:t>
            </a:r>
            <a:endParaRPr b="0" lang="en-US" sz="3600" spc="-1" strike="noStrike">
              <a:solidFill>
                <a:srgbClr val="d5004d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5000" y="144792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ini spectrum shows an Asymmetric line and  no continu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 and shuffle helps eliminate the possibility of other lines if [OIII] (50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hoads et al. 2004; Gemini spectrum reduced by Chun Xu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gem1d" descr=""/>
          <p:cNvPicPr/>
          <p:nvPr/>
        </p:nvPicPr>
        <p:blipFill>
          <a:blip r:embed="rId2"/>
          <a:stretch/>
        </p:blipFill>
        <p:spPr>
          <a:xfrm>
            <a:off x="0" y="99072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19:51:35Z</dcterms:created>
  <dc:creator>rhoads</dc:creator>
  <dc:description/>
  <dc:language>en-US</dc:language>
  <cp:lastModifiedBy>rhoads</cp:lastModifiedBy>
  <dcterms:modified xsi:type="dcterms:W3CDTF">2004-06-15T20:11:21Z</dcterms:modified>
  <cp:revision>182</cp:revision>
  <dc:subject/>
  <dc:title>The Large Area Lyman Alpha Survey</dc:title>
</cp:coreProperties>
</file>