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7.jpeg" ContentType="image/jpeg"/>
  <Override PartName="/ppt/media/image9.wmf" ContentType="image/x-wmf"/>
  <Override PartName="/ppt/media/image12.jpeg" ContentType="image/jpeg"/>
  <Override PartName="/ppt/media/image10.wmf" ContentType="image/x-wmf"/>
  <Override PartName="/ppt/media/image25.jpeg" ContentType="image/jpeg"/>
  <Override PartName="/ppt/media/image7.jpeg" ContentType="image/jpeg"/>
  <Override PartName="/ppt/media/image6.png" ContentType="image/png"/>
  <Override PartName="/ppt/media/image14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26.jpeg" ContentType="image/jpeg"/>
  <Override PartName="/ppt/media/image1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6.wmf" ContentType="image/x-wmf"/>
  <Override PartName="/ppt/media/image15.wmf" ContentType="image/x-wmf"/>
  <Override PartName="/ppt/media/image22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D6FB-B5A6-444F-B03F-C68DEB16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4578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97CB-086D-4C47-AF67-413C62B1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21B-28A5-400B-8947-57EBC773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6665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4578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B32C-74DA-47AA-8852-0F5A2542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6803-95B0-49B8-96A2-0E92289C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40A9-55A8-43EF-8B68-206DF76E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105-5AD7-4DC2-9C4B-3AC2A906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15F-E6AB-4BE7-9A52-2B6BBB44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1DE-4FF1-42F6-881A-30F21C93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5E6-664E-45DF-B68C-DB1C68C2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4578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AD0-19F0-47F1-BBA8-ADB4F6B0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6665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4578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D712-2852-4D1F-8EDE-2D17CB80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15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6095-E921-48C4-BBE5-9EFC6D5D7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NIRStop" descr=""/>
          <p:cNvPicPr/>
          <p:nvPr/>
        </p:nvPicPr>
        <p:blipFill>
          <a:blip r:embed="rId2"/>
          <a:stretch/>
        </p:blipFill>
        <p:spPr>
          <a:xfrm>
            <a:off x="181080" y="152280"/>
            <a:ext cx="4162320" cy="882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562720" y="380880"/>
            <a:ext cx="3276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Black"/>
              </a:rPr>
              <a:t>Quarterly Review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June 13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5257800"/>
            <a:ext cx="64008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RTERLY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13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gray6-01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572000" cy="39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9E8-E267-44E9-852F-E4CEEB7C71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loded 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explode6-01" descr=""/>
          <p:cNvPicPr/>
          <p:nvPr/>
        </p:nvPicPr>
        <p:blipFill>
          <a:blip r:embed="rId1"/>
          <a:stretch/>
        </p:blipFill>
        <p:spPr>
          <a:xfrm>
            <a:off x="1371600" y="2155680"/>
            <a:ext cx="6400800" cy="434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918-7803-42EF-AEA9-BF88774A55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838080" y="1676520"/>
            <a:ext cx="7314840" cy="4876200"/>
            <a:chOff x="838080" y="1676520"/>
            <a:chExt cx="7314840" cy="4876200"/>
          </a:xfrm>
        </p:grpSpPr>
        <p:graphicFrame>
          <p:nvGraphicFramePr>
            <p:cNvPr id="134" name=""/>
            <p:cNvGraphicFramePr/>
            <p:nvPr/>
          </p:nvGraphicFramePr>
          <p:xfrm>
            <a:off x="838080" y="1676520"/>
            <a:ext cx="2700000" cy="4876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676520"/>
                      <a:ext cx="2700000" cy="48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"/>
            <p:cNvGraphicFramePr/>
            <p:nvPr/>
          </p:nvGraphicFramePr>
          <p:xfrm>
            <a:off x="3527280" y="1676520"/>
            <a:ext cx="4625640" cy="48762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27280" y="1676520"/>
                      <a:ext cx="4625640" cy="48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8" name=""/>
          <p:cNvSpPr/>
          <p:nvPr/>
        </p:nvSpPr>
        <p:spPr>
          <a:xfrm>
            <a:off x="1905120" y="1143000"/>
            <a:ext cx="4800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Project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186-6072-4A85-8B63-D16A99CEA7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Status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 from August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BS el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rch Re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June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0  Overall pro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53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1  Management &amp; Repor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51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2  Systems Enginee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3  Mechanic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52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3.1     Mechanis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6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3.2     Bench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55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3.3     Fixed Assembl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6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63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49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0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54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9E1C-A977-42A2-9B1E-0700C91A7C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ugust 2002 delivery date of the instrument has not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ject is currently 66% complete over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are in the fabrication phase and in process of completing final design ta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completed 92 of 224 total project miles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r critical path is completing 2D design and fabrication of fixed assemb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cs are either complete or in fabr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fabrication is essentially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ch fabrication is near compl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cold structure 3D design is comp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fixed assemblies remain to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ics fabrication is 2/3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 low-level code development is in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ICS code is in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9F68-5D36-4268-A1DA-C8C9EBF8B1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89-noao-4200-0035" descr=""/>
          <p:cNvPicPr/>
          <p:nvPr/>
        </p:nvPicPr>
        <p:blipFill>
          <a:blip r:embed="rId1"/>
          <a:stretch/>
        </p:blipFill>
        <p:spPr>
          <a:xfrm>
            <a:off x="1143000" y="1158840"/>
            <a:ext cx="6705720" cy="5337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600200" y="6095880"/>
            <a:ext cx="6248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imator Passive Compen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7C43-A707-4B45-A9FA-CC2FD3A0AD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ents on last quarter of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activity concentrated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lkhead Assembly design and release to fa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or-Focus Assembly design and release to fa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Collimator 3D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Fixed Assembly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brication – both in-house and vendor contra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and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 planning for mechanism test and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issues and the envelope wa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BC1A-E863-4A2C-8432-1FB1E30E19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is Page Intentionally Left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964-D519-4282-AEC7-C2B5A491E2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 and Schedule Comment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ttom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no known technical issues left to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enter the integration phase of the project about 6 weeks 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aying integration has not impacted our fall-2002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irst 3 months of integration schedule is flexible with respect to integrating different mechanisms and 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still have contingency built into the integration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echanical design effort is going extremely well but is taking longer than plan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D design is nearly complete – &lt;10 fixed assemblies re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D detailing is the critical effort - should complete by mid-Ju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rication is running late on several key assemb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ily due to vendo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has impacted mechanism assembly/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brication will continue through September - Octo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hanism assembly/test has slipped to summ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C2A-8790-46F6-A4CF-900765944E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is Page Intentionally Left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E9A2-CE26-4596-B97D-D92DF4A5BE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dget and Expendi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line Estimate (Jan 99 to comple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b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3,391,2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   836,4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4,227,6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Fore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h Re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ne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b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2,866,77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3,002,9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1,074,79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1,181,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3,941,57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4,184,8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h Re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ne Re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CW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 1,754,97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 2,863,855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CW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 1,611,54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 2,011,38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WP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 1,742,65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$ 2,113,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P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9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9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9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7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3E1D-C501-4DB7-A60D-1B305616E9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is Page Intentionally Left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9197-4A5C-4A78-BB2B-1871B2AB93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is Page Intentionally Left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6D3-B4A2-4818-8B9A-D9FDBCE14A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lems and Concer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rication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ndor schedule performance issues are threatening to delay mechanism testing and integration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 of rework is yet unknown w/respect to schedule allow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WFS component late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cause resources to be diverted from other activities to work on OIWFS integration and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d delivery continues to sl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U delivery will not occur as 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use mass models instead of the real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at a late date will be compl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ure test rig on line by date needed (mid-February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B84B-A3BE-4E06-8167-EF188A6ACD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is Page Intentionally Left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6A7A-E1C6-4FE3-A7CA-9F54B7AA91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figuration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el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t and C.G. esti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ment range of electronics bo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3000-C9C7-4B48-9B5B-E6EDA31DFB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6-01onEnd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578640" cy="507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3FE-9F0B-422A-A8B6-F7B3800F14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figuration -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war and trusses fully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/deal with envelope vio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t and c.g. uncertainty redu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E85-8C7E-49E2-8051-03AFBDBEFA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velope ima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ENVELOPE%20WAIVER%20O3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484600" cy="438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F95-70D9-47E8-8A91-B3D8BEE69C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figuration - Envel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elope waiver negotiated with Gem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usion into rear dealt with by removable installation truss (normally remov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usion into “underside” dealt with by removable installation truss (normally install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usion into service area near ISS dealt with by wa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5453-E033-45FE-A8D1-675289592E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figuration - We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ight is und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t requirement (budget): 4413 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t estimate 3/01: 4115 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t estimate 6/01: 3930 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d ~100 lb uncertainty through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C63-3A41-451F-9F6A-3092EEF588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figuration - C. 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14400" y="2133720"/>
            <a:ext cx="7238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G. und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 z=100 cm, x,y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/01 z=105 cm, x=4 cm, y=5 cm (4100 lb: error ~630 ft-lb = 860 N-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e/01 z=104 cm, x=0, y=-3 cm (3930 lb: error about the s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ics enclosures can be shifted in z, increment ~40 ft-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6F8-6AD8-4FA8-B7F4-1D40F88E1E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NIRS Quarterly Re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 of 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Summa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 &amp; Integ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 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 4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nd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 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C3B6-B380-4FD1-91CE-B9BDE8EA03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is Page Intentionally Left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52D-C90D-4AC3-8B61-A87BE9402D5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figuration - Ball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last will be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ight estimate implies need; include ballast points in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G. correction will use &lt;300 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ballast will be used to “trim” instrument a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BFB6-E673-4454-AE8E-29D14305705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gration 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3111120"/>
            <a:ext cx="77724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ystem testing qualifies individual mechanisms and optical assemb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into bench permits check of warm optics and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of cold structure into dewar for vacuum, cryo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0601-7164-4DD6-912D-4060CE8F590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gration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ystem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ch integration/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war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A9B9-AF00-4A2B-9777-5FE63AF28C5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system Te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3111120"/>
            <a:ext cx="77724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fies sub-assemblies for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can be checked prior to final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are is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time for problem fi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AEF-D560-47C9-9205-C324F1E4051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system Te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3111120"/>
            <a:ext cx="77724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of mechanisms as outlined in previous re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m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m flex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 (esp. cold tests) without op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8C7-4E50-48D4-B63D-470808C4ECF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system Te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3111120"/>
            <a:ext cx="77724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cs testing of “powered” sub-assemb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cam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ner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ies performance, not required for 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era tests require calculation of thermal, wavelength shif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0F6F-A9F8-47CD-8E01-5E67E89F9D5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nch Integ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3111120"/>
            <a:ext cx="77724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subsystems to bench after qual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bench completes in late July; clean and paint after fit che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prism turret, acquisition mirror immedi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slit assembly (Offner, filter wheels, slit/decker) integration and test complete early Aug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aining mechanisms test and integration complete late August (short red camera may slip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IWFS assembly and alignment must be done by Aug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498-067A-44CD-A273-3D9CCCD7225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nch Integ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3111120"/>
            <a:ext cx="77724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into bench permits warm optics and mechanical check (uses warm MU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(re-check) fit, alignment, repea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image quality (“warm” predi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flexure compensation calibration &amp; performance (but not flexure calcul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B081-1F17-4D5F-999E-6EE4453D9D2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war Integ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3111120"/>
            <a:ext cx="77724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of cold structure into vacuum vess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 test of vacuum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here at next Q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test with M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limited flexur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 engineering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08F-410F-4CE7-944B-B3ABF45F96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NIRS Quarterly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NIRS is in the final design and fabrication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our “problems” are the delays in fabrication which affect our low-level test and integration 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7F67-9BED-43EF-9862-20FC800F55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is Page Intentionally Left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B0A-D4F3-4CB0-8481-40979DCFD7F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war Integ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3111120"/>
            <a:ext cx="777240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cool-down followed by tests outlined in August ‘99 test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cto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rtunities for IFU installation during testing; schedule penalty v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BE5E-7858-42D1-A42F-6F82CC6BDF0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is Page Intentionally Left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50F6-9180-4F68-9B83-58FB2DDC412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360" y="2514600"/>
            <a:ext cx="6172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 &amp;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est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 and Expendi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 for Next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CFD-9E44-4C11-8C68-812AB5CD95D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is Page Intentionally Left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A23-7CE6-42DF-B654-EE261937199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Status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S 5.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 Engine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 Engineering activities over this quarter inclu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sight of the top level design and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ion of flexure testing/evaluation of rotary mechanism design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sight of the passive collimator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element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d prisms/gratings/mirrors/len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planning the initial phase of instrument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reaction to design and fabrication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elope waiver sub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213D-73CE-46FD-A9E2-3D8FC467012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Status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S 5.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echanis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me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ctor Foc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viron Cov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quisition Mirr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t Deck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ter Whe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ting Turr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ting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sm Turr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s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or Driv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Bench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t-Sli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IWF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lima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M/Offn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8284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xed Assembly 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rance Windo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yo-cool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mal Dist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lkhead Rad Shie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N2 Pre-Coo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t Bench Mou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viron Cover Filt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lkhea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nt Rad Shie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r Rad Shie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nt Dewar Shel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r dewar Shel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 Inst Fr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riz Inst Fr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war Mount Tru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 Mount Trus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ipping Contain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ndling Fixtu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BB69-AEA8-43F1-A8E0-019974F145B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Status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S 5.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mechanisms are in fabrication except two camera barrels and the focus st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ptical benches are in fa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assembly 3D design remai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/rear dewar sh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ation shields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mal distribution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yo-cooler and manif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N2 Pre-cool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assembly 2D detailing in-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ctor mount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tical and Horizontal installation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war mount truss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mal enclosure mount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7418-63AF-45A9-9890-CED69776B4D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Status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S 5.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ctivities are 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matic and parts list updates occur as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rication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cillary Crate is being assembled and harnessed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be completed and tested in June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l Component Controller crate (WFS Phytrons) to be deliv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3 of Component Controller internal harnessing is d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Rem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mble and clean the Coldstation PC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ish the Thermal Enclosure internal harn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b the TE to Dewar cables (are all simple 1:1 cab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ness the Cold Mechanisms and Cold Bench as they becom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46CB-60AE-4F8B-8737-373B0E9FA2B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Status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S 5.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1760" y="21333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 Controller code 90%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has been tested as far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iting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ion of the electronics thermal encl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l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level (EPICS) code 70%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mini DHS received, being evalu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3E78-9C8C-4D2E-8A90-5DFF104BBC2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QR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and Schedule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s and Concer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ion pl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s for next revi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0A9B-3C17-49A8-82E9-76BCAE7644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Status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S 5.8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85800" y="2209680"/>
          <a:ext cx="7724880" cy="390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72488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105-F096-43B1-8E8D-040F9AFAC5A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ject Status 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nses and Wind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ly one Ba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ens for short red camera re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ndor remaking the last le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mirrors received except for POM and Acq Mi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M and Acq Mirror are replicas, due in 4 wee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ats are due in 3 wee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Gratings in fabrication, due the end of June;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 filters ordered through UH consortium; 2 failed spec and vendor is expected to re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llaston prism due in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lf of Aug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oss-dispersion prisms due late Ju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346-07D5-4190-AFA7-659A8D2A27F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is Page Intentionally Left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32C-D3B4-4FAC-AE63-0117480405D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ject Milestones by Quar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01000" y="43434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of 6/8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371600" y="2057400"/>
          <a:ext cx="6534000" cy="43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534000" cy="43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71FD-0E37-40B7-BB66-C0358A8617D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10666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Package Status 8/99 thru 5/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09480" y="1719360"/>
          <a:ext cx="8001000" cy="48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19360"/>
                    <a:ext cx="800100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41F-2012-4DC9-8DD6-CA5FA8D9503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wbs6-01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8915400" cy="46371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981080" y="1066680"/>
            <a:ext cx="5410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S - Total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3E1-5CB9-4429-9E58-8B978F513E3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066680" y="1295280"/>
          <a:ext cx="7010640" cy="502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7010640" cy="50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28F5-CB76-4687-981D-375E02C42F4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990720" y="1219320"/>
          <a:ext cx="7086600" cy="50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19320"/>
                    <a:ext cx="70866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A80-09F3-432D-9B32-D2F7590BE0E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914400" y="1219320"/>
          <a:ext cx="7315200" cy="50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731520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4572-A76C-4E50-A5F9-BE086199F97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838080" y="1143000"/>
          <a:ext cx="716292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716292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2C0-1E2D-4B31-9333-F448A829E99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is Page Intentionally Left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FBE4-6F06-4438-A26F-9E615D9BF0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is Page Intentionally Left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4B77-4BA8-4556-A932-D5C8AC0BFFE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762120" y="1117440"/>
            <a:ext cx="7011720" cy="5587920"/>
            <a:chOff x="762120" y="1117440"/>
            <a:chExt cx="7011720" cy="5587920"/>
          </a:xfrm>
        </p:grpSpPr>
        <p:grpSp>
          <p:nvGrpSpPr>
            <p:cNvPr id="242" name=""/>
            <p:cNvGrpSpPr/>
            <p:nvPr/>
          </p:nvGrpSpPr>
          <p:grpSpPr>
            <a:xfrm>
              <a:off x="3220920" y="1951560"/>
              <a:ext cx="2334960" cy="596880"/>
              <a:chOff x="3220920" y="1951560"/>
              <a:chExt cx="2334960" cy="596880"/>
            </a:xfrm>
          </p:grpSpPr>
          <p:sp>
            <p:nvSpPr>
              <p:cNvPr id="243" name=""/>
              <p:cNvSpPr/>
              <p:nvPr/>
            </p:nvSpPr>
            <p:spPr>
              <a:xfrm>
                <a:off x="3260520" y="2007000"/>
                <a:ext cx="2295360" cy="541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20920" y="1951560"/>
                <a:ext cx="2295360" cy="54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mini Projec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ject Manag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. Gaugha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2922480" y="1117440"/>
              <a:ext cx="2910240" cy="615600"/>
              <a:chOff x="2922480" y="1117440"/>
              <a:chExt cx="2910240" cy="615600"/>
            </a:xfrm>
          </p:grpSpPr>
          <p:sp>
            <p:nvSpPr>
              <p:cNvPr id="246" name=""/>
              <p:cNvSpPr/>
              <p:nvPr/>
            </p:nvSpPr>
            <p:spPr>
              <a:xfrm>
                <a:off x="2978280" y="1191600"/>
                <a:ext cx="2854440" cy="541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922480" y="1117440"/>
                <a:ext cx="2854440" cy="54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irector, NOA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. Moul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1539720" y="2673720"/>
              <a:ext cx="2362680" cy="455040"/>
              <a:chOff x="1539720" y="2673720"/>
              <a:chExt cx="2362680" cy="455040"/>
            </a:xfrm>
          </p:grpSpPr>
          <p:sp>
            <p:nvSpPr>
              <p:cNvPr id="249" name=""/>
              <p:cNvSpPr/>
              <p:nvPr/>
            </p:nvSpPr>
            <p:spPr>
              <a:xfrm>
                <a:off x="1606320" y="2728800"/>
                <a:ext cx="2296080" cy="39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39720" y="2673720"/>
                <a:ext cx="2296080" cy="39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ject Assist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. Eklund (.5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4897800" y="2673720"/>
              <a:ext cx="2362680" cy="455040"/>
              <a:chOff x="4897800" y="2673720"/>
              <a:chExt cx="2362680" cy="455040"/>
            </a:xfrm>
          </p:grpSpPr>
          <p:sp>
            <p:nvSpPr>
              <p:cNvPr id="252" name=""/>
              <p:cNvSpPr/>
              <p:nvPr/>
            </p:nvSpPr>
            <p:spPr>
              <a:xfrm>
                <a:off x="4964400" y="2728800"/>
                <a:ext cx="2296080" cy="39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97800" y="2673720"/>
                <a:ext cx="2296080" cy="39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dministrative Assista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. Bowerso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787320" y="3493080"/>
              <a:ext cx="1039320" cy="834120"/>
              <a:chOff x="787320" y="3493080"/>
              <a:chExt cx="1039320" cy="834120"/>
            </a:xfrm>
          </p:grpSpPr>
          <p:sp>
            <p:nvSpPr>
              <p:cNvPr id="255" name=""/>
              <p:cNvSpPr/>
              <p:nvPr/>
            </p:nvSpPr>
            <p:spPr>
              <a:xfrm>
                <a:off x="831600" y="3527640"/>
                <a:ext cx="995040" cy="799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7320" y="3493080"/>
                <a:ext cx="995040" cy="799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ject Scientist,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ystems Engineer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J. Elia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1960920" y="3493080"/>
              <a:ext cx="1058400" cy="721800"/>
              <a:chOff x="1960920" y="3493080"/>
              <a:chExt cx="1058400" cy="721800"/>
            </a:xfrm>
          </p:grpSpPr>
          <p:sp>
            <p:nvSpPr>
              <p:cNvPr id="258" name=""/>
              <p:cNvSpPr/>
              <p:nvPr/>
            </p:nvSpPr>
            <p:spPr>
              <a:xfrm>
                <a:off x="2024640" y="3548520"/>
                <a:ext cx="994680" cy="66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J. Eli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60920" y="3493080"/>
                <a:ext cx="994680" cy="66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echanical Engineers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. Hileman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. Mull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4293360" y="3493080"/>
              <a:ext cx="1058400" cy="721800"/>
              <a:chOff x="4293360" y="3493080"/>
              <a:chExt cx="1058400" cy="721800"/>
            </a:xfrm>
          </p:grpSpPr>
          <p:sp>
            <p:nvSpPr>
              <p:cNvPr id="261" name=""/>
              <p:cNvSpPr/>
              <p:nvPr/>
            </p:nvSpPr>
            <p:spPr>
              <a:xfrm>
                <a:off x="4357080" y="3548520"/>
                <a:ext cx="994680" cy="66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293360" y="3493080"/>
                <a:ext cx="994680" cy="66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lectrical Engine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J. Peneg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3142800" y="3493080"/>
              <a:ext cx="1058400" cy="721800"/>
              <a:chOff x="3142800" y="3493080"/>
              <a:chExt cx="1058400" cy="721800"/>
            </a:xfrm>
          </p:grpSpPr>
          <p:sp>
            <p:nvSpPr>
              <p:cNvPr id="264" name=""/>
              <p:cNvSpPr/>
              <p:nvPr/>
            </p:nvSpPr>
            <p:spPr>
              <a:xfrm>
                <a:off x="3206520" y="3548520"/>
                <a:ext cx="994680" cy="66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J. Eli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142800" y="3493080"/>
                <a:ext cx="994680" cy="66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ptical Engine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. Lia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5487840" y="3493080"/>
              <a:ext cx="1058400" cy="721800"/>
              <a:chOff x="5487840" y="3493080"/>
              <a:chExt cx="1058400" cy="721800"/>
            </a:xfrm>
          </p:grpSpPr>
          <p:sp>
            <p:nvSpPr>
              <p:cNvPr id="267" name=""/>
              <p:cNvSpPr/>
              <p:nvPr/>
            </p:nvSpPr>
            <p:spPr>
              <a:xfrm>
                <a:off x="5551560" y="3548520"/>
                <a:ext cx="994680" cy="66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487840" y="3493080"/>
                <a:ext cx="994680" cy="66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curement &amp; Vendor Liais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. Davi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6664680" y="3493080"/>
              <a:ext cx="1058400" cy="721800"/>
              <a:chOff x="6664680" y="3493080"/>
              <a:chExt cx="1058400" cy="721800"/>
            </a:xfrm>
          </p:grpSpPr>
          <p:sp>
            <p:nvSpPr>
              <p:cNvPr id="270" name=""/>
              <p:cNvSpPr/>
              <p:nvPr/>
            </p:nvSpPr>
            <p:spPr>
              <a:xfrm>
                <a:off x="6728400" y="3548520"/>
                <a:ext cx="994680" cy="66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664680" y="3493080"/>
                <a:ext cx="994680" cy="66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ftwa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. Wolf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762120" y="4429080"/>
              <a:ext cx="1058400" cy="855000"/>
              <a:chOff x="762120" y="4429080"/>
              <a:chExt cx="1058400" cy="855000"/>
            </a:xfrm>
          </p:grpSpPr>
          <p:sp>
            <p:nvSpPr>
              <p:cNvPr id="273" name=""/>
              <p:cNvSpPr/>
              <p:nvPr/>
            </p:nvSpPr>
            <p:spPr>
              <a:xfrm>
                <a:off x="825840" y="4494600"/>
                <a:ext cx="994680" cy="78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62120" y="4429080"/>
                <a:ext cx="994680" cy="78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upport Scientis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. Joy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. Gregor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1960920" y="4340160"/>
              <a:ext cx="1058400" cy="1075680"/>
              <a:chOff x="1960920" y="4340160"/>
              <a:chExt cx="1058400" cy="1075680"/>
            </a:xfrm>
          </p:grpSpPr>
          <p:sp>
            <p:nvSpPr>
              <p:cNvPr id="276" name=""/>
              <p:cNvSpPr/>
              <p:nvPr/>
            </p:nvSpPr>
            <p:spPr>
              <a:xfrm>
                <a:off x="2024640" y="4370400"/>
                <a:ext cx="994680" cy="1045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60920" y="4340160"/>
                <a:ext cx="994680" cy="1015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echanical Design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J. Andre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. Ros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. Downe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. Circ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312440" y="4343760"/>
              <a:ext cx="1058400" cy="1059840"/>
              <a:chOff x="4312440" y="4343760"/>
              <a:chExt cx="1058400" cy="1059840"/>
            </a:xfrm>
          </p:grpSpPr>
          <p:sp>
            <p:nvSpPr>
              <p:cNvPr id="279" name=""/>
              <p:cNvSpPr/>
              <p:nvPr/>
            </p:nvSpPr>
            <p:spPr>
              <a:xfrm>
                <a:off x="4375800" y="4433400"/>
                <a:ext cx="995040" cy="970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312440" y="4343760"/>
                <a:ext cx="995040" cy="97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lectrical Technicia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. Georg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ter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. Low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4368240" y="1750320"/>
              <a:ext cx="0" cy="20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68240" y="2521440"/>
              <a:ext cx="0" cy="7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70880" y="3289320"/>
              <a:ext cx="57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90160" y="2909880"/>
              <a:ext cx="98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60080" y="328932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63120" y="328932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24480" y="328932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56320" y="328932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44320" y="328428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32680" y="3289320"/>
              <a:ext cx="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09320" y="431532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63120" y="4180320"/>
              <a:ext cx="0" cy="15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93040" y="419400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50520" y="5669280"/>
              <a:ext cx="2608560" cy="103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Added: R. Bennett, L. Lederer, R. Davis, Interns S. Kroto, E. Mountford, A. Low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ff Transferred: R. Rob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pdated 6/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5500440" y="4350240"/>
              <a:ext cx="1058400" cy="1050840"/>
              <a:chOff x="5500440" y="4350240"/>
              <a:chExt cx="1058400" cy="1050840"/>
            </a:xfrm>
          </p:grpSpPr>
          <p:sp>
            <p:nvSpPr>
              <p:cNvPr id="296" name=""/>
              <p:cNvSpPr/>
              <p:nvPr/>
            </p:nvSpPr>
            <p:spPr>
              <a:xfrm>
                <a:off x="5564160" y="4430880"/>
                <a:ext cx="994680" cy="970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500440" y="4350240"/>
                <a:ext cx="994680" cy="97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neral Technicia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J. Pin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ter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. Krot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6715440" y="4350240"/>
              <a:ext cx="1058400" cy="721800"/>
              <a:chOff x="6715440" y="4350240"/>
              <a:chExt cx="1058400" cy="721800"/>
            </a:xfrm>
          </p:grpSpPr>
          <p:sp>
            <p:nvSpPr>
              <p:cNvPr id="299" name=""/>
              <p:cNvSpPr/>
              <p:nvPr/>
            </p:nvSpPr>
            <p:spPr>
              <a:xfrm>
                <a:off x="6779160" y="4405680"/>
                <a:ext cx="994680" cy="66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15440" y="4350240"/>
                <a:ext cx="994680" cy="66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gramm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. Ruck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6012360" y="420696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06120" y="4206960"/>
              <a:ext cx="0" cy="14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169440" y="4365360"/>
              <a:ext cx="1058400" cy="1039320"/>
              <a:chOff x="3169440" y="4365360"/>
              <a:chExt cx="1058400" cy="1039320"/>
            </a:xfrm>
          </p:grpSpPr>
          <p:sp>
            <p:nvSpPr>
              <p:cNvPr id="304" name=""/>
              <p:cNvSpPr/>
              <p:nvPr/>
            </p:nvSpPr>
            <p:spPr>
              <a:xfrm>
                <a:off x="3232800" y="4453200"/>
                <a:ext cx="995040" cy="951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169440" y="4365360"/>
                <a:ext cx="995040" cy="95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strument Mak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J. Stei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. Bennet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. Leder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. Davi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2460600" y="426852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13320" y="4268520"/>
              <a:ext cx="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771480" y="5474520"/>
              <a:ext cx="1058400" cy="505800"/>
              <a:chOff x="771480" y="5474520"/>
              <a:chExt cx="1058400" cy="505800"/>
            </a:xfrm>
          </p:grpSpPr>
          <p:sp>
            <p:nvSpPr>
              <p:cNvPr id="309" name=""/>
              <p:cNvSpPr/>
              <p:nvPr/>
            </p:nvSpPr>
            <p:spPr>
              <a:xfrm>
                <a:off x="835200" y="5513400"/>
                <a:ext cx="994680" cy="46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71480" y="5474520"/>
                <a:ext cx="994680" cy="46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ter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. Mountfor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309320" y="5275800"/>
              <a:ext cx="0" cy="19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2616480" y="5474520"/>
              <a:ext cx="1058400" cy="505800"/>
              <a:chOff x="2616480" y="5474520"/>
              <a:chExt cx="1058400" cy="505800"/>
            </a:xfrm>
          </p:grpSpPr>
          <p:sp>
            <p:nvSpPr>
              <p:cNvPr id="313" name=""/>
              <p:cNvSpPr/>
              <p:nvPr/>
            </p:nvSpPr>
            <p:spPr>
              <a:xfrm>
                <a:off x="2680200" y="5513400"/>
                <a:ext cx="994680" cy="466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616480" y="5474520"/>
                <a:ext cx="994680" cy="466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 &amp; 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. Ditsl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75480" y="4263840"/>
              <a:ext cx="0" cy="12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99C1-7E98-44AD-833B-710A434E01C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ns for Next Re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ext Quarterly Review will be held in the September time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make significant progress in mechanism and optical subassembly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optics to be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ats/Prisms/Grating repl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 mechanical assemblies to have completed fabr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lkhead assembly (to be undergoing testing at vend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war components (rad shields, shell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unting tru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yo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ics enclosure fabrication and checkout comp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 Component Controller Software testing will be i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IWFS components integration/test should be comp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FAD-132B-46F8-858C-4224D2B7A641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rent project status shows us to be 66%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complete the design phase over the next qu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firmly into the fabrication phase of the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about 6 weeks behind baseline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on track to deliver in fall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stimated cost of GNIRS is not significantly changed from the August ’99 bas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mated total cost:  $4,184,838 - January ’99 to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221B-B13F-4BE7-9A36-4D7A49EA48A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is Page Intentionally Left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951-B7FB-42D2-9C92-B60BF42B906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94920" y="2057400"/>
            <a:ext cx="72392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endix A – Imag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endix B – Mileston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endix C – Envelope Wa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D40E-E80B-431B-8D18-561E3DE6AEC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endix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ation and Fabr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34F-4BF3-469F-818B-F26BF4F14F7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 Assemb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gray6-01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4286520" cy="36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D01-B257-48E4-B38E-F0D5C7F1F5D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 Assemb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6-01onEnd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359320" cy="413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D2C-CD04-4030-8A44-389726A9E90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loded 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explode6-01" descr=""/>
          <p:cNvPicPr/>
          <p:nvPr/>
        </p:nvPicPr>
        <p:blipFill>
          <a:blip r:embed="rId1"/>
          <a:stretch/>
        </p:blipFill>
        <p:spPr>
          <a:xfrm>
            <a:off x="1371600" y="2155680"/>
            <a:ext cx="6400800" cy="434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5C90-DB31-4C10-A60B-C2DB96B5BF1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ject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819160"/>
            <a:ext cx="6858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 to last QR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ess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dget and expenditures to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374-292D-465B-9F05-873C25580B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 Camera C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topcameracover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423040" cy="384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6B85-BD50-4C74-B0EA-062D1884360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ngent Support Bar Brack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tangentsupportbar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38156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25C0-C6A0-432B-8F22-7B53B61C0867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lit Decker Hou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sllitdeckerhousing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549760" cy="397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F616-DB82-4435-B77F-BE65C7FED90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ckoff Mirror Hou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1076optics2" descr=""/>
          <p:cNvPicPr/>
          <p:nvPr/>
        </p:nvPicPr>
        <p:blipFill>
          <a:blip r:embed="rId1"/>
          <a:stretch/>
        </p:blipFill>
        <p:spPr>
          <a:xfrm>
            <a:off x="2819520" y="2895480"/>
            <a:ext cx="3517920" cy="27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8080-04B7-43E7-9622-09C33EA2C29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-Slit Bench Aft Hou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slitdeckrhsng2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6210360" cy="40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894-E6EE-4839-8E2C-156DA70EF03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wer Slit Slide Ra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supportbar2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4533840" cy="377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68E5-5515-438A-9EEA-02CC57FA618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lit Slide Assemb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slitslide6-01a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638680" cy="422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4FE9-FEA4-4058-8D4D-F864B6EC3C7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sm Turret Drive Assemb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rismturretdrive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854680" cy="443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5A15-367A-40B0-A1C8-F7646A1CD4F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ting Turret Drive Assemb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gratingturretdrive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72428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10DA-508A-446B-89AA-F28CD4ED789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fner Assemb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offnerAssy1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639040" cy="422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820-E249-482A-B8CD-8FF7B2E7516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ed Completions by this Quarterly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74284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fabrication of all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design of all fixed assemb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lens delivery and acceptance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dewar cold station PCB fa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dewar warm-up controller fa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dewar-to-thermal enclosure cab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91FA-714D-461E-BB8F-43843A2AF1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is Page Intentionally Left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969-3059-422B-99D3-8EB94651D38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endix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lest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1A66-7A62-47CC-A8CD-23709F22FBA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is Page Intentionally Left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30C0-0305-40A7-827B-62EDED270CEA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lestones sinc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FR (3/0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143000" y="1676520"/>
          <a:ext cx="698184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69818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2FC-E7E8-4705-AA23-688F55DDB88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This Page Intentionally Left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187-5CA6-43D6-A0BF-E809080BC819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endix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velope Wa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DCDB-6528-4E54-B33C-34C951D5056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1600200"/>
            <a:ext cx="7924680" cy="4701600"/>
            <a:chOff x="609480" y="1600200"/>
            <a:chExt cx="7924680" cy="4701600"/>
          </a:xfrm>
        </p:grpSpPr>
        <p:grpSp>
          <p:nvGrpSpPr>
            <p:cNvPr id="61" name=""/>
            <p:cNvGrpSpPr/>
            <p:nvPr/>
          </p:nvGrpSpPr>
          <p:grpSpPr>
            <a:xfrm>
              <a:off x="615600" y="1603080"/>
              <a:ext cx="7911000" cy="4698720"/>
              <a:chOff x="615600" y="1603080"/>
              <a:chExt cx="7911000" cy="469872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615600" y="1603080"/>
                <a:ext cx="2636640" cy="437760"/>
                <a:chOff x="615600" y="1603080"/>
                <a:chExt cx="2636640" cy="4377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705240" y="1603080"/>
                  <a:ext cx="2457720" cy="43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te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15600" y="1603080"/>
                  <a:ext cx="2636640" cy="43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3252600" y="1603080"/>
                <a:ext cx="2636640" cy="437760"/>
                <a:chOff x="3252600" y="1603080"/>
                <a:chExt cx="2636640" cy="4377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342240" y="1603080"/>
                  <a:ext cx="2457720" cy="43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atu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252600" y="1603080"/>
                  <a:ext cx="2636640" cy="43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889960" y="1603080"/>
                <a:ext cx="2636640" cy="437760"/>
                <a:chOff x="5889960" y="1603080"/>
                <a:chExt cx="2636640" cy="43776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5979600" y="1603080"/>
                  <a:ext cx="2457720" cy="43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ment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5889960" y="1603080"/>
                  <a:ext cx="2636640" cy="437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615600" y="2040840"/>
                <a:ext cx="2636640" cy="696960"/>
                <a:chOff x="615600" y="2040840"/>
                <a:chExt cx="2636640" cy="69696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705240" y="2040840"/>
                  <a:ext cx="2457720" cy="69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plete fabrication of all mechanism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615600" y="2040840"/>
                  <a:ext cx="2636640" cy="69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3252600" y="2040840"/>
                <a:ext cx="2636640" cy="696960"/>
                <a:chOff x="3252600" y="2040840"/>
                <a:chExt cx="2636640" cy="6969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342240" y="2040840"/>
                  <a:ext cx="2457720" cy="69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t Complete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– two Camera Barrels, Focus Stage in detail design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252600" y="2040840"/>
                  <a:ext cx="2636640" cy="69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5889960" y="2040840"/>
                <a:ext cx="2636640" cy="696960"/>
                <a:chOff x="5889960" y="2040840"/>
                <a:chExt cx="2636640" cy="6969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5979600" y="2040840"/>
                  <a:ext cx="2457720" cy="69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me rework will be required as testing progresses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89960" y="2040840"/>
                  <a:ext cx="2636640" cy="696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15600" y="2737800"/>
                <a:ext cx="2636640" cy="597240"/>
                <a:chOff x="615600" y="2737800"/>
                <a:chExt cx="2636640" cy="5972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705240" y="2737800"/>
                  <a:ext cx="2457720" cy="59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plete design of all fixed assembl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15600" y="2737800"/>
                  <a:ext cx="2636640" cy="59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3252600" y="2737800"/>
                <a:ext cx="2636640" cy="597240"/>
                <a:chOff x="3252600" y="2737800"/>
                <a:chExt cx="2636640" cy="5972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342240" y="2737800"/>
                  <a:ext cx="2457720" cy="59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t Complete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– 10 of 19 fixed assemblies completed desig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252600" y="2737800"/>
                  <a:ext cx="2636640" cy="59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5889960" y="2737800"/>
                <a:ext cx="2636640" cy="597240"/>
                <a:chOff x="5889960" y="2737800"/>
                <a:chExt cx="2636640" cy="5972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979600" y="2737800"/>
                  <a:ext cx="2457720" cy="59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hould complete the design of the remaining items this quart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889960" y="2737800"/>
                  <a:ext cx="2636640" cy="59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15600" y="3335400"/>
                <a:ext cx="2636640" cy="597240"/>
                <a:chOff x="615600" y="3335400"/>
                <a:chExt cx="2636640" cy="59724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705240" y="3335400"/>
                  <a:ext cx="2457720" cy="59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plete lens delivery and acceptance test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15600" y="3335400"/>
                  <a:ext cx="2636640" cy="59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252600" y="3335400"/>
                <a:ext cx="2636640" cy="597240"/>
                <a:chOff x="3252600" y="3335400"/>
                <a:chExt cx="2636640" cy="59724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342240" y="3335400"/>
                  <a:ext cx="2457720" cy="59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t complete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- One BaF</a:t>
                  </a:r>
                  <a:r>
                    <a:rPr b="0" lang="en-US" sz="14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was broken by the vendo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252600" y="3335400"/>
                  <a:ext cx="2636640" cy="59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89960" y="3335400"/>
                <a:ext cx="2636640" cy="597240"/>
                <a:chOff x="5889960" y="3335400"/>
                <a:chExt cx="2636640" cy="5972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979600" y="3335400"/>
                  <a:ext cx="2457720" cy="59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livery of final lens is scheduled for August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889960" y="3335400"/>
                  <a:ext cx="2636640" cy="59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15600" y="3933000"/>
                <a:ext cx="2636640" cy="497880"/>
                <a:chOff x="615600" y="3933000"/>
                <a:chExt cx="2636640" cy="4978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705240" y="3933000"/>
                  <a:ext cx="245772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plete dewar cold station PCB fabrica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15600" y="3933000"/>
                  <a:ext cx="263664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3252600" y="3933000"/>
                <a:ext cx="2636640" cy="497880"/>
                <a:chOff x="3252600" y="3933000"/>
                <a:chExt cx="2636640" cy="4978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342240" y="3933000"/>
                  <a:ext cx="245772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ple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252600" y="3933000"/>
                  <a:ext cx="263664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5889960" y="3933000"/>
                <a:ext cx="2636640" cy="497880"/>
                <a:chOff x="5889960" y="3933000"/>
                <a:chExt cx="2636640" cy="497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979600" y="3933000"/>
                  <a:ext cx="2457720" cy="4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889960" y="3933000"/>
                  <a:ext cx="2636640" cy="4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15600" y="4429800"/>
                <a:ext cx="2636640" cy="957960"/>
                <a:chOff x="615600" y="4429800"/>
                <a:chExt cx="2636640" cy="957960"/>
              </a:xfrm>
            </p:grpSpPr>
            <p:grpSp>
              <p:nvGrpSpPr>
                <p:cNvPr id="108" name=""/>
                <p:cNvGrpSpPr/>
                <p:nvPr/>
              </p:nvGrpSpPr>
              <p:grpSpPr>
                <a:xfrm>
                  <a:off x="702720" y="4429800"/>
                  <a:ext cx="2461680" cy="957960"/>
                  <a:chOff x="702720" y="4429800"/>
                  <a:chExt cx="2461680" cy="95796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704520" y="4429800"/>
                    <a:ext cx="245556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mplete dewar warm-up controller fabricatio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02720" y="4928760"/>
                    <a:ext cx="246168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" name=""/>
                <p:cNvSpPr/>
                <p:nvPr/>
              </p:nvSpPr>
              <p:spPr>
                <a:xfrm>
                  <a:off x="615600" y="4430880"/>
                  <a:ext cx="2636640" cy="91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3252600" y="4430880"/>
                <a:ext cx="2636640" cy="915840"/>
                <a:chOff x="3252600" y="4430880"/>
                <a:chExt cx="2636640" cy="9158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342240" y="4430880"/>
                  <a:ext cx="2457720" cy="91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t Complete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– start of this activity has been reschedul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252600" y="4430880"/>
                  <a:ext cx="2636640" cy="91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889960" y="4430880"/>
                <a:ext cx="2636640" cy="915840"/>
                <a:chOff x="5889960" y="4430880"/>
                <a:chExt cx="2636640" cy="9158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979600" y="4430880"/>
                  <a:ext cx="2457720" cy="91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ow priority activity that is not needed until late in the project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889960" y="4430880"/>
                  <a:ext cx="2636640" cy="91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15600" y="5346000"/>
                <a:ext cx="2636640" cy="955800"/>
                <a:chOff x="615600" y="5346000"/>
                <a:chExt cx="2636640" cy="955800"/>
              </a:xfrm>
            </p:grpSpPr>
            <p:grpSp>
              <p:nvGrpSpPr>
                <p:cNvPr id="119" name=""/>
                <p:cNvGrpSpPr/>
                <p:nvPr/>
              </p:nvGrpSpPr>
              <p:grpSpPr>
                <a:xfrm>
                  <a:off x="702720" y="5346000"/>
                  <a:ext cx="2461680" cy="955800"/>
                  <a:chOff x="702720" y="5346000"/>
                  <a:chExt cx="2461680" cy="95580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704520" y="5346000"/>
                    <a:ext cx="245556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mplete dewar-to-thermal enclosure cabling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702720" y="5842800"/>
                    <a:ext cx="246168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" name=""/>
                <p:cNvSpPr/>
                <p:nvPr/>
              </p:nvSpPr>
              <p:spPr>
                <a:xfrm>
                  <a:off x="615600" y="5347080"/>
                  <a:ext cx="2636640" cy="91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252600" y="5347080"/>
                <a:ext cx="2636640" cy="915840"/>
                <a:chOff x="3252600" y="5347080"/>
                <a:chExt cx="2636640" cy="9158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342240" y="5347080"/>
                  <a:ext cx="2457720" cy="91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t Complete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– design is comple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252600" y="5347080"/>
                  <a:ext cx="2636640" cy="91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5889960" y="5347080"/>
                <a:ext cx="2636640" cy="915840"/>
                <a:chOff x="5889960" y="5347080"/>
                <a:chExt cx="2636640" cy="9158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979600" y="5347080"/>
                  <a:ext cx="2457720" cy="91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tual fabrication waiting for final dimensions/lengt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889960" y="5347080"/>
                  <a:ext cx="2636640" cy="91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9" name=""/>
            <p:cNvSpPr/>
            <p:nvPr/>
          </p:nvSpPr>
          <p:spPr>
            <a:xfrm>
              <a:off x="609480" y="1600200"/>
              <a:ext cx="7924680" cy="4666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240" y="6680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4CA-AEAA-4266-A73B-3E94DFDC08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5:07:45Z</dcterms:created>
  <dc:creator>Valued Gateway Client</dc:creator>
  <dc:description/>
  <dc:language>en-US</dc:language>
  <cp:lastModifiedBy>Melissa Bowersock</cp:lastModifiedBy>
  <dcterms:modified xsi:type="dcterms:W3CDTF">2001-06-18T15:08:00Z</dcterms:modified>
  <cp:revision>265</cp:revision>
  <dc:subject/>
  <dc:title>PowerPoint Presentation</dc:title>
</cp:coreProperties>
</file>