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19.wmf" ContentType="image/x-wmf"/>
  <Override PartName="/ppt/media/image6.wmf" ContentType="image/x-wmf"/>
  <Override PartName="/ppt/media/image8.jpeg" ContentType="image/jpeg"/>
  <Override PartName="/ppt/media/image13.wmf" ContentType="image/x-wmf"/>
  <Override PartName="/ppt/media/image25.jpeg" ContentType="image/jpeg"/>
  <Override PartName="/ppt/media/image10.wmf" ContentType="image/x-wmf"/>
  <Override PartName="/ppt/media/image31.wmf" ContentType="image/x-wmf"/>
  <Override PartName="/ppt/media/image28.png" ContentType="image/png"/>
  <Override PartName="/ppt/media/image7.jpeg" ContentType="image/jpeg"/>
  <Override PartName="/ppt/media/image12.wmf" ContentType="image/x-wmf"/>
  <Override PartName="/ppt/media/image9.jpeg" ContentType="image/jpeg"/>
  <Override PartName="/ppt/media/image27.png" ContentType="image/png"/>
  <Override PartName="/ppt/media/image30.wmf" ContentType="image/x-wmf"/>
  <Override PartName="/ppt/media/image11.wmf" ContentType="image/x-wmf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4.wmf" ContentType="image/x-wmf"/>
  <Override PartName="/ppt/media/image3.wmf" ContentType="image/x-wmf"/>
  <Override PartName="/ppt/media/image18.wmf" ContentType="image/x-wmf"/>
  <Override PartName="/ppt/media/image2.jpeg" ContentType="image/jpeg"/>
  <Override PartName="/ppt/media/image2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AC67-35DD-4B1D-B7F4-F4E226CCB5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FAA5-F216-4226-B206-E48E7B40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79BF-4DC6-4E58-9694-AB6713AC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CA18-07CD-4CA2-9D10-9CE6337D6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6945C-A39F-4DE7-9012-75406F9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D449-C675-4CAE-9575-34506D06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FE53-751A-4EAD-8A01-A311C51F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B4AA-42E3-48FE-B23E-02697749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D95AD-BA3D-4DD0-8E15-9358A56E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4EA9-DAD8-4977-BD90-68BB35EE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1A12-34F9-4096-B300-D031336F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A8BB-E679-4B6B-B937-E40C3A8B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15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9C4-0503-4092-827D-D9541A1A5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GNIRStop" descr=""/>
          <p:cNvPicPr/>
          <p:nvPr/>
        </p:nvPicPr>
        <p:blipFill>
          <a:blip r:embed="rId2"/>
          <a:stretch/>
        </p:blipFill>
        <p:spPr>
          <a:xfrm>
            <a:off x="181080" y="152280"/>
            <a:ext cx="4162320" cy="882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62720" y="380880"/>
            <a:ext cx="3276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Quarterly Review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ay 1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LY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,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fullassy5-02" descr=""/>
          <p:cNvPicPr/>
          <p:nvPr/>
        </p:nvPicPr>
        <p:blipFill>
          <a:blip r:embed="rId1"/>
          <a:stretch/>
        </p:blipFill>
        <p:spPr>
          <a:xfrm>
            <a:off x="1282680" y="1003320"/>
            <a:ext cx="6566040" cy="41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9D11-E791-4962-BE90-687CE38EB7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is page intentionally left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6B3B-9033-450A-B063-9BE92A0775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90720" y="1295280"/>
          <a:ext cx="708660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086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51A1-25DA-4BDA-8195-2A5AF108D1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ment 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assyprocedures" descr=""/>
          <p:cNvPicPr/>
          <p:nvPr/>
        </p:nvPicPr>
        <p:blipFill>
          <a:blip r:embed="rId1"/>
          <a:stretch/>
        </p:blipFill>
        <p:spPr>
          <a:xfrm>
            <a:off x="1219320" y="1960560"/>
            <a:ext cx="6705360" cy="428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43B84-9912-461D-B9BD-C253F32C53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 Assembly Integration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47920" y="1752480"/>
          <a:ext cx="61722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52480"/>
                    <a:ext cx="61722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17A5-DB9F-49DB-88A0-F9EA80BB9F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simulator is GNIRS test fixture, not facility sim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s Gemini telescope beam, including pu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f view ~3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5 microns wave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XYZ stage with integrating sphere, light source and pinhole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4494B-86CA-41DF-B87E-755FEEBF66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telsim1" descr=""/>
          <p:cNvPicPr/>
          <p:nvPr/>
        </p:nvPicPr>
        <p:blipFill>
          <a:blip r:embed="rId1"/>
          <a:stretch/>
        </p:blipFill>
        <p:spPr>
          <a:xfrm>
            <a:off x="2362320" y="1943280"/>
            <a:ext cx="1704960" cy="4410000"/>
          </a:xfrm>
          <a:prstGeom prst="rect">
            <a:avLst/>
          </a:prstGeom>
          <a:ln w="0">
            <a:noFill/>
          </a:ln>
        </p:spPr>
      </p:pic>
      <p:pic>
        <p:nvPicPr>
          <p:cNvPr id="70" name="telsim2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181476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F368-1572-49F9-8AD6-7DDA14E3C2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rig simulates telescope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degree rotation about elevation axis, op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90 degree increments for initia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30-45 degree increments for full flexur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7D1D-5FDC-43DF-A7A9-F6F14ED214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xure 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FLEXRIG02" descr=""/>
          <p:cNvPicPr/>
          <p:nvPr/>
        </p:nvPicPr>
        <p:blipFill>
          <a:blip r:embed="rId1"/>
          <a:stretch/>
        </p:blipFill>
        <p:spPr>
          <a:xfrm>
            <a:off x="1447920" y="1731960"/>
            <a:ext cx="64767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7E68-FAE2-4BFA-A56E-DBC0805A96E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of telescope pupil on cold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 1% 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with pupil 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8288-6A5F-4F09-B6F6-7B7552D11B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t-to-detector flex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 pixel.hour = 0.4 pixel/unit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with pinhole arrays in slit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with long and short cam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alibration for compensation at collim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6EA2-EFAB-4A60-A382-D9FF3A2A73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is page intentionally left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1CAF9-E1EE-463E-9365-7982F83324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WFS to sl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crons/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ual pinhole mask, image one hole in each channel, displace mask to keep OIWFS image centered (“guiding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A20D1-2238-4C2D-A60C-77F452D3012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ation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and C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ed Value = 4094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= 4409 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42 lb from last QR, -19 lb from 3/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mainly due to shields, hence only small c.g.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check hardware agains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weights within 2% of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8 drawings released of 1613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6BCB-935E-4688-88A4-7C694D9DB9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is page intentionally left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2749-2F3B-4609-AB43-AD34C64718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QR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tegr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and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/FTE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to complete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ables proj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ini payments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still out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tanding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s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 and Conc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mator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U lat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WFS prism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s for Nex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2935-1435-49B6-873B-BDF31B4B1E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 to January Q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to be completed by this Q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/2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brication and check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controll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WFS integration/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/optical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S Chang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e delivery Chang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362320"/>
            <a:ext cx="861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DD59-1648-400F-A95E-2C00966BCF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QR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2133720"/>
          <a:ext cx="8381880" cy="4119480"/>
        </p:xfrm>
        <a:graphic>
          <a:graphicData uri="http://schemas.openxmlformats.org/drawingml/2006/table">
            <a:tbl>
              <a:tblPr/>
              <a:tblGrid>
                <a:gridCol w="3200400"/>
                <a:gridCol w="1523880"/>
                <a:gridCol w="365760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/2D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al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fabrication and check-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omple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s and Bulkhead wiring not comple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s controller 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WFS integration/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sm not available from Ge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sm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omple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lit and focus mechanisms still in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cal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s clea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Comple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residual cleaning rem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S Change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 Delivery Change 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0E43-8329-452F-997D-5A7B4927F1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2193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 date has slipped to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testing and shield fabrication has taken much longer than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block of schedule contingency is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d test – 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war vacuum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 assembly and 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C lens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7D33B-FD84-43B3-A573-A6C30B4EF54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hedule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Assembly Integration should start by 15 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assembly onto bulkhead and be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ure testing June 10-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ure acceptance has been delayed until 15 M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 installation may further dela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testing and characterization from June –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cold cycle periods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cycle is for continge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deliverables have started and will complete during testing over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nuals (hardware and software maintenance, op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C1D0-2B72-4139-A634-18117414B23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Projec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23880" y="2031840"/>
            <a:ext cx="6400440" cy="4368600"/>
            <a:chOff x="1523880" y="2031840"/>
            <a:chExt cx="6400440" cy="4368600"/>
          </a:xfrm>
        </p:grpSpPr>
        <p:graphicFrame>
          <p:nvGraphicFramePr>
            <p:cNvPr id="98" name=""/>
            <p:cNvGraphicFramePr/>
            <p:nvPr/>
          </p:nvGraphicFramePr>
          <p:xfrm>
            <a:off x="1523880" y="2031840"/>
            <a:ext cx="4270320" cy="4368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31840"/>
                      <a:ext cx="4270320" cy="43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787360" y="2031840"/>
            <a:ext cx="2136960" cy="43686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87360" y="2031840"/>
                      <a:ext cx="2136960" cy="43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2024-21D4-40F9-8762-F48844C980A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ion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00200" y="1828800"/>
          <a:ext cx="6095880" cy="46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09588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B4B7B-17F9-48DF-B82E-E3BC7D2327B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NIRS Quarterly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Over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1E6F-C04E-48DD-8C62-16B90CD198D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f Last Quarter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/fabrication activity concentrated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shield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testing, r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 cleaning and wi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mator assembly and mirr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scope simulator design/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design cleanup (configuration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C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scope simulator op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E35A-D234-438B-9C47-8C5CB65BF29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S Report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Complete since MFR Mar ’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2503440"/>
          <a:ext cx="7315200" cy="359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03440"/>
                    <a:ext cx="7315200" cy="35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D47C-5619-42E6-AE1D-5B35483253B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3880" y="1600200"/>
          <a:ext cx="6248520" cy="49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24852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E99D-BFB0-4D23-93F2-38EA8BF76D5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S 5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echanis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or Foc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 Cov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quisition Mirr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k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ter Whe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ting Turr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tin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sm Turr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 Driv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nc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l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IWF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imat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M/Off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9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ixed Assembly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ance Windo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-cool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lecular Sie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mal Dist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e-Coo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 Bench Mou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viron Cover Fil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he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Rad Sh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e Rad Shie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 Dewar Sh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r dewar She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t Inst Fr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riz Inst Fr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war Mount Tru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 Mount Tru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ipping Contain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 Fix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last Weigh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3A483-EC5A-4CC5-A8AE-9BFA7CE25FC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S 5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 over this quar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mator mirror assembl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mechanism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see instrument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collimator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e to the Hardware Maintenance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Operations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B3AD-C666-4189-BEC5-782A52C64A9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S 5.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abrication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ctivity is rework found in testing/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scope simulator still in fabr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ies in final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ocooler assembly cleaning, assembly,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distribution copper strapping sizing and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wa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shield cleaning and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/2D design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clean-up items re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for this Q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E’s, 3 MD, 4 IM, 1 M&amp;P Eng, 1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fter Ma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-time M&amp;P for cleaning/assembly during top assembly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, 2 MD, 2 IM, 1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043A5-ABB1-4C05-8EB4-0A3EE2C3D30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S 5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mechanism test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 in instrument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e the Thermal Enclosure to Dewar c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 the Bulkhead 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5 EE, 1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C014-A7B6-4973-8CDC-87508B3B638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S 5.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 Controller code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CS code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 instrument assembly and check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Software Maintenance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iz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6F8D-373B-486B-9B53-850B6CFFEA0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S 5.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urement i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C l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wo g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or op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 mechanical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optics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s clean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 in instrument assembly and check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ch Associate,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A2AE-FC93-45D9-9C56-34C5926182F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filters ordered through UH consortium; 2 failed spec and vendor may re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install what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left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or testing, alignment and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optics in Prism and Grating tur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C camera lens insta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rating insta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ptical Tech, 0.25 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16A6-0519-4C0C-9175-B74D37B83D2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NIRS Quarterly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IRS is in the assembly and integra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 is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urther modifications, etc. are considered part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testing is almost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mechanism (Focus assembly) in cold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WFS integration i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is now scheduled for late November of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in subassembly testing and r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in fabrication of sh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ure test facility will be late coming on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CF8D-9E74-46B0-81D8-9FD82BBAF4B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62120" y="1295280"/>
          <a:ext cx="7772400" cy="502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7724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865B-52B8-4AE9-A167-137513173E5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533520" y="1447920"/>
          <a:ext cx="805788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57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E66F-2F67-4AC0-B5BC-10E03437A9F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FTE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727280"/>
          <a:ext cx="76201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27280"/>
                    <a:ext cx="76201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D4C8-76A8-4788-908C-7B4E3CAE576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TE Proj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shows the resources forecast through delivery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10,000 hrs total needed to finish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es not include commissioning or the impact of the pending change order for delivery to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2B07-DEE2-43E9-9D64-77A85CE856A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533520" y="1219320"/>
          <a:ext cx="815328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815328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8F95-7E9E-4B7D-810E-6FA954C3D54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9480" y="1143000"/>
          <a:ext cx="7925040" cy="50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59C5-8151-4B55-82EB-FCC3ECC0D8B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Milestones by Qu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48164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 4/22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2048040"/>
          <a:ext cx="6172200" cy="439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48040"/>
                    <a:ext cx="6172200" cy="43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300D-5E3D-40C4-B0BF-A35D489CB0AA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iverables Proj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a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Maintenance M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Maintenance M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Manu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-Built Draw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 – 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 Scheduled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ship 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Hardware Sh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 –Ship 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16-17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6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ssio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’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Earlier if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ld test cycle not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**Based on approval of Chile delivery change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62F6-2E12-43F6-9D5C-0F0AF6BB7ED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mini Payments Summary – Current Work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lest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y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rigi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st Plans Deliv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0,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r-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Mar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s Fabrication Comple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25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un-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May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als Comple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75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ug-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Oct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arm Tests Comple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25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-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Jun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d Cycle Testing Comple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25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r-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Sep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-Ship Accep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80,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un-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Nov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l Accept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00,85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p-0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Dec-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58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 orders sub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D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,6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Chile Deliv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76,925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$179,6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lled to Gem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EA2E-80E1-4DDD-98D1-DA855179DB3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till Out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 clean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draw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built draw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kheads and sh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 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cuum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ure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fabrication, assembly/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imator mi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/character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up miscellaneous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 code fixes as testing progr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enance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ing and 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col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lit rework and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tings and prism insta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C lens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/software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88BC-2D45-41BB-B40D-74A9C028DF9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currently 91% complete over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mpleted 195 of 225 total project milest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activities over this quar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leanup and final parts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tuning and correction of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eld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 assembly and 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c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Controller cod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CS softwar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further code changes will be considered part of integration/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4D602-95A3-4691-BB22-3D0AD90BC41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and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tingency left in the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testing and shield fabrication took much longer than an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 Rig installation schedule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 risk of impacting integrati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Red Camera lens repla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s will be received in June timeframe - integration at first opport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schedule risk but requires complete instrument dis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mator mirror may degrade instrum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IWFS pr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llation by Gemini after delivery and acceptance of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complete instrument disassembly by Ge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will be late - proceeding with ma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schedule risk – require only partial instrument dis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D06C-7ABD-4AAB-A936-51B4A588304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rrent project status shows us to be 91%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in the integratio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cus mechanism testing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lit mechanism rework and re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 top assembly is the next maj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issue is flexur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y delays are becoming a major concer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d cost of GNIRS is $ 4,443,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’99 to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under budget on labor but over budget on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lipped schedule by 45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effective schedule contingency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B934-0F82-41F3-BD5A-78D8403417F1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estones for Nex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Quarterly Review will be held in the August 2002 time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ure testing will be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ld test cycles will hav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manuals will be complete and to Gemini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documentation deliverable will be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contai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d and de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in fabrication or in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1736A-8F11-42DA-9718-2301BC485F9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2057400"/>
            <a:ext cx="7239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x A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endix B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leston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BS Chart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15A4-7A09-4BDB-A368-3B2F41C2E23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brication and Integration 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B7874-C907-46CF-9486-640BB7538B5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ll Assembly on Handling C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DCP01800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0973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1493-88E4-4F75-8FA1-0BD4399DCEB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Room 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ernadette4-02" descr=""/>
          <p:cNvPicPr/>
          <p:nvPr/>
        </p:nvPicPr>
        <p:blipFill>
          <a:blip r:embed="rId1"/>
          <a:stretch/>
        </p:blipFill>
        <p:spPr>
          <a:xfrm>
            <a:off x="1608120" y="182880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BC10-43D9-4E97-88A9-BA79DBEBC2A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era Barr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amerabarrels" descr=""/>
          <p:cNvPicPr/>
          <p:nvPr/>
        </p:nvPicPr>
        <p:blipFill>
          <a:blip r:embed="rId1"/>
          <a:stretch/>
        </p:blipFill>
        <p:spPr>
          <a:xfrm>
            <a:off x="1684440" y="191124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51A7F-1357-4A9C-B835-646976EE125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era Test Fix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ameratestfixtr" descr=""/>
          <p:cNvPicPr/>
          <p:nvPr/>
        </p:nvPicPr>
        <p:blipFill>
          <a:blip r:embed="rId1"/>
          <a:stretch/>
        </p:blipFill>
        <p:spPr>
          <a:xfrm>
            <a:off x="1684440" y="1835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ABF1-6C0B-4A9B-9A26-602D3C17F102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reampbox" descr=""/>
          <p:cNvPicPr/>
          <p:nvPr/>
        </p:nvPicPr>
        <p:blipFill>
          <a:blip r:embed="rId1"/>
          <a:stretch/>
        </p:blipFill>
        <p:spPr>
          <a:xfrm>
            <a:off x="1600200" y="1835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68C0-E443-453C-8C08-7DC6460BCC1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is page intentionally left bl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7D9B5-0172-4C59-A0DE-23124B1C5CC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sm Turr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rismturrets" descr=""/>
          <p:cNvPicPr/>
          <p:nvPr/>
        </p:nvPicPr>
        <p:blipFill>
          <a:blip r:embed="rId1"/>
          <a:stretch/>
        </p:blipFill>
        <p:spPr>
          <a:xfrm>
            <a:off x="1608120" y="1835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EABB-ADEC-4EC1-A954-0F4A21A7F9D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Shie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2756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B1EB8-57C2-49EF-BFA5-4999EC53715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Shields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20960" y="1984320"/>
            <a:ext cx="342756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D874-CFBE-45DB-9816-8467E88C833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ndix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B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ADEA-EDE9-4754-BACA-798E15AFD61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042920" y="1463760"/>
            <a:ext cx="7144920" cy="4611600"/>
            <a:chOff x="1042920" y="1463760"/>
            <a:chExt cx="7144920" cy="4611600"/>
          </a:xfrm>
        </p:grpSpPr>
        <p:sp>
          <p:nvSpPr>
            <p:cNvPr id="180" name=""/>
            <p:cNvSpPr/>
            <p:nvPr/>
          </p:nvSpPr>
          <p:spPr>
            <a:xfrm>
              <a:off x="3674160" y="1463760"/>
              <a:ext cx="2011320" cy="446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or, NOA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Mou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74160" y="2754720"/>
              <a:ext cx="2011320" cy="54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mini Project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. Gaugh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15680" y="3481920"/>
              <a:ext cx="1861560" cy="408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ministrative Assista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. Bowers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2920" y="4343760"/>
              <a:ext cx="1014480" cy="84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Scientist, Systems Engineering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Eli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161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chanical Engine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. Mu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6068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. Lia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529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ical Engine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Peneg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6160" y="5357880"/>
              <a:ext cx="1014480" cy="71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chanical Design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Andr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Ros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81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gram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. Ruck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67040" y="1919520"/>
              <a:ext cx="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7040" y="3364920"/>
              <a:ext cx="0" cy="75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60960" y="4113720"/>
              <a:ext cx="61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104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6732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980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67320" y="5038920"/>
              <a:ext cx="0" cy="31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8168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19680" y="3481920"/>
              <a:ext cx="1924920" cy="434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Assista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Eklund (.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52960" y="5224320"/>
              <a:ext cx="1014480" cy="590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ical Te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. Geor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89000" y="5045400"/>
              <a:ext cx="0" cy="18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2920" y="5357880"/>
              <a:ext cx="1014480" cy="71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pport Scienti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Joy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. Greg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66000" y="5197680"/>
              <a:ext cx="0" cy="15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72280" y="4343760"/>
              <a:ext cx="1015560" cy="697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curement &amp; Vender Liais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. Dav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1568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0932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4160" y="2107440"/>
              <a:ext cx="2011320" cy="44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. Dagge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7040" y="255780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72280" y="5224320"/>
              <a:ext cx="1014480" cy="59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l Technici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P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36400" y="5038920"/>
              <a:ext cx="0" cy="18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60680" y="5357880"/>
              <a:ext cx="1014480" cy="713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strument Mak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S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. Harr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62280" y="5208120"/>
              <a:ext cx="238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4360" y="5208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18160" y="5357880"/>
              <a:ext cx="1014480" cy="489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&amp;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. Dits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53040" y="51984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39200" y="3718080"/>
              <a:ext cx="118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7AAC-6AF8-47A0-B356-04F4EDF6412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estones sinc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FR (3/0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09600" y="1981080"/>
          <a:ext cx="328608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1981080"/>
                    <a:ext cx="3286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4876920" y="1981080"/>
            <a:ext cx="3200040" cy="4495680"/>
            <a:chOff x="4876920" y="1981080"/>
            <a:chExt cx="3200040" cy="4495680"/>
          </a:xfrm>
        </p:grpSpPr>
        <p:graphicFrame>
          <p:nvGraphicFramePr>
            <p:cNvPr id="219" name=""/>
            <p:cNvGraphicFramePr/>
            <p:nvPr/>
          </p:nvGraphicFramePr>
          <p:xfrm>
            <a:off x="4876920" y="2066760"/>
            <a:ext cx="3198240" cy="4410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66760"/>
                      <a:ext cx="3198240" cy="44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1" name=""/>
            <p:cNvGraphicFramePr/>
            <p:nvPr/>
          </p:nvGraphicFramePr>
          <p:xfrm rot="10800000">
            <a:off x="4876920" y="1980720"/>
            <a:ext cx="3200040" cy="96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rot="10800000">
                      <a:off x="4876920" y="1980720"/>
                      <a:ext cx="3200040" cy="9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7122-8BD6-4BBB-890B-FDB7A647077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81080" y="1179360"/>
            <a:ext cx="541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BS - Tota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wbs4-0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70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E284-561D-4F3A-8650-EA81ECB61DB2}" type="slidenum">
              <a:t>6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ical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ssembl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 sim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u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3B18-5738-4B47-ADCB-86174835A8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ssembly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warm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time, repeatability, flex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cold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time, repea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assembl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front error,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4DBE-373A-4E7B-ACF0-8927D1F052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219320" y="1143000"/>
          <a:ext cx="6683400" cy="54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683400" cy="54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54AB-8864-4B0C-8122-3768FEB585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5:07:45Z</dcterms:created>
  <dc:creator>Valued Gateway Client</dc:creator>
  <dc:description/>
  <dc:language>en-US</dc:language>
  <cp:lastModifiedBy>Melissa Bowersock</cp:lastModifiedBy>
  <dcterms:modified xsi:type="dcterms:W3CDTF">2002-04-30T21:18:25Z</dcterms:modified>
  <cp:revision>491</cp:revision>
  <dc:subject/>
  <dc:title>PowerPoint Presentation</dc:title>
</cp:coreProperties>
</file>