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12.wmf" ContentType="image/x-wmf"/>
  <Override PartName="/ppt/media/image9.jpeg" ContentType="image/jpeg"/>
  <Override PartName="/ppt/media/image35.jpeg" ContentType="image/jpeg"/>
  <Override PartName="/ppt/media/image32.jpeg" ContentType="image/jpeg"/>
  <Override PartName="/ppt/media/image17.jpeg" ContentType="image/jpeg"/>
  <Override PartName="/ppt/media/image11.wmf" ContentType="image/x-wmf"/>
  <Override PartName="/ppt/media/image8.jpeg" ContentType="image/jpeg"/>
  <Override PartName="/ppt/media/image39.jpeg" ContentType="image/jpeg"/>
  <Override PartName="/ppt/media/image4.wmf" ContentType="image/x-wmf"/>
  <Override PartName="/ppt/media/image33.jpeg" ContentType="image/jpeg"/>
  <Override PartName="/ppt/media/image6.jpeg" ContentType="image/jpeg"/>
  <Override PartName="/ppt/media/image5.wmf" ContentType="image/x-wmf"/>
  <Override PartName="/ppt/media/image13.wmf" ContentType="image/x-wmf"/>
  <Override PartName="/ppt/media/image27.jpeg" ContentType="image/jpeg"/>
  <Override PartName="/ppt/media/image34.jpeg" ContentType="image/jpeg"/>
  <Override PartName="/ppt/media/image38.wmf" ContentType="image/x-wmf"/>
  <Override PartName="/ppt/media/image37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9.jpeg" ContentType="image/jpe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3E410-E5E8-4077-A7B4-303D3F6C8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909D-9404-4495-A112-FC54F3C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8467-0950-46FD-98EF-AE4AD9C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B902-5525-4294-920D-FFC178F5CA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9ECA2-442E-41A7-B958-B4CEBDE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A973-1B31-4013-A61C-F619116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E985B-3064-418E-8F66-D97DB9F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544D-C30F-41C9-AD8C-431EA61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1AE9-4609-4767-9FD2-7AE267A6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965A-ADCF-4FF4-9FDF-8720B173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E065-D14D-4436-8A74-1D0D1E4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65B9-029B-476C-AD12-6AE035A9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15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E64C-9637-4FBD-8822-81D6BC6C9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GNIRStop" descr=""/>
          <p:cNvPicPr/>
          <p:nvPr/>
        </p:nvPicPr>
        <p:blipFill>
          <a:blip r:embed="rId2"/>
          <a:stretch/>
        </p:blipFill>
        <p:spPr>
          <a:xfrm>
            <a:off x="181080" y="152280"/>
            <a:ext cx="4162320" cy="882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62720" y="380880"/>
            <a:ext cx="3276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Quarterly Review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anuary 24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ullassy1-02up" descr=""/>
          <p:cNvPicPr/>
          <p:nvPr/>
        </p:nvPicPr>
        <p:blipFill>
          <a:blip r:embed="rId1"/>
          <a:stretch/>
        </p:blipFill>
        <p:spPr>
          <a:xfrm>
            <a:off x="2630520" y="1009800"/>
            <a:ext cx="3882960" cy="4552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L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24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7304-E2FC-43C4-A071-F3354F7951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to October 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raft of the ATP and commissioning plan was submitted to Gemini for review; returned with minor comments las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Orders are i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hil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Differential Pressure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 out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enance Manual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and Operation manuals are not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ED51-B97F-4ECD-A49A-3E671FFC1E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to October Q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controller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ng is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out complete as far as can be done without actual hardware to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checks with the electronics are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PICS software is 95%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U lat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eding with mass modul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try to integrate the IFU when it becom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ED58-6123-4D54-8863-4A82873873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Project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33600" y="2336760"/>
            <a:ext cx="6076800" cy="4064040"/>
            <a:chOff x="1533600" y="2336760"/>
            <a:chExt cx="6076800" cy="4064040"/>
          </a:xfrm>
        </p:grpSpPr>
        <p:graphicFrame>
          <p:nvGraphicFramePr>
            <p:cNvPr id="68" name=""/>
            <p:cNvGraphicFramePr/>
            <p:nvPr/>
          </p:nvGraphicFramePr>
          <p:xfrm>
            <a:off x="1533600" y="2336760"/>
            <a:ext cx="4054320" cy="4064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2336760"/>
                      <a:ext cx="405432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581440" y="2336760"/>
            <a:ext cx="2028960" cy="40640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81440" y="2336760"/>
                      <a:ext cx="2028960" cy="406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E841-EE24-46D2-901D-199BBAAC72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sed Bench Integration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76320" y="1797120"/>
          <a:ext cx="7176960" cy="47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6320" y="1797120"/>
                    <a:ext cx="717696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63BA-A98B-44F5-8929-8953F62396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Left – Integratio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ritica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passive shields first so bulkhead can be assembled and w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hields needed for integration of bench into de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technician for w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&amp;P engineer and technician for cleaning and prep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sts for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engineers and designers for sh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 makers for assembly/rework/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1FCD-C555-4D8E-8D81-1C28CC0F55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from August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BS 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cto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anu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0  Overall pro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5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6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8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8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1  Management &amp; Repor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51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61%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71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2  Systems Engine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0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0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  Mechan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5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7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87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9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1     Mechan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6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8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9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9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2     Ben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5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7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10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9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3     Fixed Assemb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1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3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6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8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6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59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8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7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49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6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8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8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2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0%     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5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67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77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8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E2F8-57F7-4581-A917-F703B141DF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livery date of the instrument is now October 2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radiation shield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 in mechanism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is currently 86% complete over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completed 170 of 226 total proje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critical path(s)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s: 3D and 2D design and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s fabrication left is mechanism and dewar wi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Component Controller code is essentiall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E346-11A1-412E-9179-2B78220966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f Last Quarter of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/fabrication activity concentrated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on shield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lkhead Assembly fabrication/acceptance tests/fit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t checks and f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warm tests, flexure tests, r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 cleaning and wiring, prep for integration and/or cold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fixed assembly fabrication: truss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scope simulato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design cleanup (configuration 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D1FB-BFE2-4F31-AE25-20D29F9E7E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and Schedule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esign virtuall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s and the Thermal Distribution Assembly re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will continue through March on sh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assembly flexure testing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abrication is essentiall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or rework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m tur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wheel cleaned and wired, ready for final warm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ting Turret ready for cleaning and wi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cleaning and wiring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A3BF-6687-4557-938C-CA7E8D4AC8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nd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line Estimate (Jan 99 to comple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,391,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  836,4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4,227,6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Forecast (Jan 99 to comple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cto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or             $2,866,775           $3,002,938            $2,957,389           $2,986,9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ital           $1,074,7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$1,181,90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,138,285           $1,384,6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$3,941,57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$4,184,83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4,095,674           $4,371,5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u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cto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Jan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CWS           $1,754,97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$2,863,85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,085,811           $3,263,2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CWP           $1,611,54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$2,011,3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,526,319           $2,899,3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WP           $1,742,65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$2,113,2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,762,963           $3,339,2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0.9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0.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0.7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0.8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8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A773-FC80-43CD-8CE7-88278BA853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8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R - Project Ov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94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R - Technical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R -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ur of design area work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strument Sh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E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lue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- Hardwar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F116-BF6B-4A01-A40D-1F240C125D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and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level integration has been delayed by 2 months until April 1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on shield design taking longer than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rework required to pass flexure tests and fit che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cus mechanism design/fab/assembly took longer than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 fabrication will extend into M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ation (Manu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enance manual outline started; procedures documented as carried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ed by focus on mechanism testing and radiation sh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prism 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WFS complete except for installing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m needs to be installed and tested before benches integration into the dewar – latest date for receipt is 3/4/2002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i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stallation hardw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eding with mass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is a chance for integration if it arrives in Febru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B3FF-9138-4523-B488-27FC71D78C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C1D4-A71A-42B8-A4AE-D779ECFF94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01-2002%20STATUS%20REVIEW%20COVER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5440" cy="731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86C3-FDAC-431B-A1B6-61397D2BA8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NIRS Config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design work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work as “punch li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CAF1-6700-4D6E-A41B-6E0393398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219320"/>
          <a:ext cx="77724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7724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CB26-7AB5-43B1-902F-096F27F3D4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ield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shields (2 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esign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ing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proceeding as design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 sh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D design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weight estimat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6C64-11D4-4B09-B10D-A31759AEE7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 Sh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GPM%20ACTIVE%20SHIELDS%2001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31136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8558-F6D8-41A0-A9D3-D939012A59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ssive &amp; Active Shields (explod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GPM%20ALL%20SHIELDS%2001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9147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23BB-E30C-4F80-8847-439417FC68E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ight Bud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d Value = 4052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 = 4409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56 lb from last QR, -61 lb from 3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mainly due to shields, hence only small c.g.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t check hardware against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 weights within 2%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925B-70CF-412E-9932-2434987A9A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2640-A5B5-4E3C-ACBA-33C54F3974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IRS Quarterly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&amp; Integ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F75A-7999-439B-84CD-D120CBBCE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31800" y="1143000"/>
          <a:ext cx="788184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800" y="1143000"/>
                    <a:ext cx="7881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221B-9608-4C59-8A57-2854A36492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ystem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philosophy remains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ubsystems tested prior to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fy performance for mechanism motion tables, flexure compens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C03A6-B0E8-4F9C-B3CA-7585629FDF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ystem Testing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echanisms have undergone functiona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esting on focus remains (1/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mplete clean/cold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rets flexure performance determined, provides initial input for flexure compensator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cal tests on camera, collimator re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lignment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-optics aligned and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629C-30C5-45A8-9854-21F5851C0F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system Testing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WFS integration nominally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ligned and tested with warm 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nstall scienc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limited time to install and check S-H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84F6-604D-440A-AD9D-0AB3D82BBA6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IWFS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IWFS software accounted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X readout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tup information 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s documentation 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oftware is 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 status (9/20/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is displaced on gimbal Y-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hardware appear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4E06-CC43-47E5-BEBE-17F02F599B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ftware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ment Sequen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s to detector, wavefront sensor, components controller, 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(CAD, CAR, App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and Alarm database (S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ev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erature rea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5C1DA-AADD-4717-A461-852630F047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Work Remaining -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rm and Status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CS/DHS head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F5A3-3CCF-4B37-9403-49F70AD0D5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Work Remaining -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 (Hardware Interfac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coding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eak engineering 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 Sequencer and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User interface (ongo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0B3E-3279-4BA2-9D76-074B559728F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Work Remaining -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 fully wired system for end-to-e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motors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distances between limits, switche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speeds, acceleration, backlas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l mechanism(s)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alibration curve and individual off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ure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operation in fin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E456-21FB-4C04-B5D7-2A0849AE20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Work Remaining -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evel -- E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screens provide next level of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Level -- OCS compl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CSw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ool, in use in Hawaii, verifies OCS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56B7-B1DD-4E6F-9AA1-9CA6FD948D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NIRS Quarterly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NIRS is in the final design and fabrication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bench assemblies ar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khead and Dewar Shell assemblies ar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abrication is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testing i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WFS integration is complete except for th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on track for delivery in October of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B401-9967-4675-B471-293B041578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Work Rem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allows testing without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only for mo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to GEM7 or GEM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c on Detector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563C-8721-4FDE-8D95-5DCF409DBA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Work Rem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is done w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ors, temperature readback, etc, work at command line (low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Screens provide required control and rea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Swish/Acceptance test proves compliance with Gemini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IRS works on the tele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B2E6-E2D3-4990-BF3D-77FDCC3DC5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Interface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d correctly to instrument sequenc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Swish will help, but it’s new to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W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testing is not GNIRS conc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B96C-1041-4FF2-AF40-3D4D2B8876E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&amp;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dget and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6CBF-C06F-4E6B-833F-9F21999A32C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still on track for 2002 delivery – current ship date Oct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path is Radiation Shield design and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testing and bench integration is a close 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-to-bench fit checks ar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cold tests are begi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ch integration completes in 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y of Post-Slit 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nch +Prism, Grating and Camera Turrets, Acquisition Mirror and Coll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y of Pre-Slit be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W, Slit/Decker, and fore-op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ing of Pre-Slit, OIWFS and Post-Slit be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and electronics are 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and debug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 checks with actual hardware i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integration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tor installation remains to be done at a later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83788-2CBC-4072-8624-272AC3ED533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S 5.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lanned tasks in this work element are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ies over this quarter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ight of the top level desig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on of mechanism cleaning and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warm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 flexur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-optics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 Scient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18B1F-630C-42BA-8FB2-669735AA1B8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or Foc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 Cov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quisition Mirr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t Deck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lter Whe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 Turr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t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sm Turr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sm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tor Dri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enc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-Sl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IWF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limat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M/Off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xed Assembly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nce Windo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-cool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lecular Sie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 Dist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Pre-Co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 Bench Mou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 Cover Filt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lkhea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ive Rad Shie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tive Rad Shie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 Dewar She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 dewar She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 Inst Fr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 Inst Fr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war Mount Tru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 Mount Tru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ipping Contai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ndling Fixt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llast Weigh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405B3-4749-4F58-BDC6-E593D454C73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echanism fabrication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ctivity is in rework of items found in tes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mator assembly complete – waiting assembly/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mbly 3D/2D design and fabrication rem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s (passive and ac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distribution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o-cooler and mani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E’s, 3 MD, 4 IM, 1 M&amp;P Eng, 1 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23F7-9D64-471D-A98F-EDF0D3168C0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77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ctivities are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 Controller electronics thermal enclosur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rem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ricate the Thermal Enclosure to Dewar ca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ness the cold mechanisms and cold bench as they becom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software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ness the Bulkhead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war warm-up controller fabr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5 EE, 1 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CBAD4-CA79-44E2-B806-1587DC6EF3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Controller cod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has been tested as far as possible before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ing with mechanism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 tables for individual mechanisms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controller code interface is yet to be ver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level (EPICS) code 99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7D11-599D-46ED-96A0-6A41A2F2060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21333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Q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and Schedul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and Conce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s for next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9A5A-A299-4A6A-AA55-89ABA6F9D7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S 5.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items remaining in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ive and Active radiation sh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o-cooler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e-cool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no major vendor fabrication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ing work is radiation shields and small parts/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ech Associate,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E199-9CA6-46D2-8889-54188FA9A4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 optics procurement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s for Telescope Simulator re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s (still an open i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filters ordered through UH consortium; 2 failed spec and vendor may 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 left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era alignment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mator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s alignment tests of assembled be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Optical Tech, 0.25 O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FC1A-DA61-4648-AD1D-DCA10B5407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4CC9-33A7-44D6-B14D-AA4273693A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ilestones by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24680" y="48164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 1/1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447920" y="1839960"/>
          <a:ext cx="632448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39960"/>
                    <a:ext cx="63244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4288-42A0-496E-93C9-0431CB4D555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143000"/>
          <a:ext cx="73915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391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3A5A4-FB40-4012-B56D-2E0A3D02FDC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066680"/>
          <a:ext cx="754380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54380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825E-F1FB-4620-B2FB-FC0BE59BE4E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ed FTE 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1523880"/>
          <a:ext cx="7239240" cy="50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23924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C18A1-534F-445B-A879-D5155ED07F4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TE Proj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shows the resources forecast through delivery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16,600 hrs total needed to finish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oes not include commissioning or the impact of the pending change order for delivery to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D6DC-E0FF-49A7-8FCA-237A60FA942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42880" y="1143000"/>
          <a:ext cx="8067600" cy="51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143000"/>
                    <a:ext cx="8067600" cy="51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BF78-C175-447E-8527-A0D21299A23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838080" y="1347840"/>
          <a:ext cx="7467840" cy="490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47840"/>
                    <a:ext cx="746784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50B4-C76C-4312-B577-860E63E0522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to last Q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nd expenditures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6916-3BDA-4BB8-9371-8A282A1C22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 Ch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2808C-0D70-4CB4-9184-710A4FC34B7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042920" y="1463760"/>
            <a:ext cx="7145280" cy="5044680"/>
            <a:chOff x="1042920" y="1463760"/>
            <a:chExt cx="7145280" cy="5044680"/>
          </a:xfrm>
        </p:grpSpPr>
        <p:sp>
          <p:nvSpPr>
            <p:cNvPr id="181" name=""/>
            <p:cNvSpPr/>
            <p:nvPr/>
          </p:nvSpPr>
          <p:spPr>
            <a:xfrm>
              <a:off x="3674160" y="1463760"/>
              <a:ext cx="2011320" cy="446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rector, NOA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Mou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74160" y="2754720"/>
              <a:ext cx="2011320" cy="548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mini Project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. Gaugh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16040" y="3481920"/>
              <a:ext cx="1861560" cy="408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ministrative Assista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. Bowers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2920" y="4343760"/>
              <a:ext cx="1014480" cy="84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Scientist, Systems Engineering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Eli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161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chanical Engine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. Mu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6068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pti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. Lia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529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ical Engine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Peneg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16160" y="5357880"/>
              <a:ext cx="1014480" cy="939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echanical Design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Andr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Ros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. Downe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8160" y="4343760"/>
              <a:ext cx="1014480" cy="69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gram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. Ruck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7400" y="1919520"/>
              <a:ext cx="0" cy="19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7400" y="3365280"/>
              <a:ext cx="0" cy="75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60960" y="4113720"/>
              <a:ext cx="612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7104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6732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944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67320" y="5039280"/>
              <a:ext cx="0" cy="31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68168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19680" y="3481920"/>
              <a:ext cx="1924920" cy="434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ject Assista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Eklund (.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52960" y="5224680"/>
              <a:ext cx="1014480" cy="590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lectrical Te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. Geor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89000" y="5045400"/>
              <a:ext cx="0" cy="18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2920" y="5357880"/>
              <a:ext cx="1014480" cy="71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upport Scientis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. Joy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. Greg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6000" y="5198040"/>
              <a:ext cx="0" cy="15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2280" y="4343760"/>
              <a:ext cx="1015920" cy="697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curement &amp; Vender Liais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. Dav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604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09320" y="41079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4160" y="2107440"/>
              <a:ext cx="2011320" cy="44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. Dagge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67400" y="2557800"/>
              <a:ext cx="0" cy="203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2280" y="5224680"/>
              <a:ext cx="1014480" cy="59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l Technicia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P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6040" y="5039280"/>
              <a:ext cx="0" cy="18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60680" y="5357880"/>
              <a:ext cx="1014480" cy="115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strument Mak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Ste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. Bennet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. Harri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J. Irv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62280" y="5208120"/>
              <a:ext cx="238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24360" y="5208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8160" y="5357880"/>
              <a:ext cx="1014480" cy="489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&amp;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. Dits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53040" y="519840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39200" y="3756240"/>
              <a:ext cx="118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F020-18E0-4218-906D-76A3830AED4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Quarterly Review will be held in the April 2002 time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will be into the Integration and Tes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exure testing planned start in late 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design will b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 fabrication will be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pt for items associated with flexure testing and shipping 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work items as identified in integration may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 fabrication and checkout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work items as identified in integration may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nent Controller Software completed and operating with the Electr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CS level software will still be in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integration will be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als will have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lines will be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al drafts will have sta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5427-7ADB-44A5-8012-0B2981E119C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project status shows us to be over 86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on track to deliver in Octo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near the end of the desig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 design is taking longer than anticip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testing and rework is taking longer than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near the end of the fabricatio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echanisms have passed warm functional and flexur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 is focus mechanism which has yet to be fully 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imated cost of GNIRS is $ 4,371,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’99 to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1857-7882-4C5E-A84C-31E812F99C7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2057400"/>
            <a:ext cx="7239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A – Imag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B – Mileston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WBS Cha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98BA-D133-4F9F-9345-2A39C817A99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brication Im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6E61-F84B-424E-8A20-C4300E9A822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IWFS with Assemb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setup7" descr=""/>
          <p:cNvPicPr/>
          <p:nvPr/>
        </p:nvPicPr>
        <p:blipFill>
          <a:blip r:embed="rId1"/>
          <a:stretch/>
        </p:blipFill>
        <p:spPr>
          <a:xfrm>
            <a:off x="1641600" y="2317680"/>
            <a:ext cx="5860800" cy="41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16DBB-CDF7-4C14-B60D-41E66E61C2C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te Foreoptics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offnertest12-14-01" descr=""/>
          <p:cNvPicPr/>
          <p:nvPr/>
        </p:nvPicPr>
        <p:blipFill>
          <a:blip r:embed="rId1"/>
          <a:stretch/>
        </p:blipFill>
        <p:spPr>
          <a:xfrm>
            <a:off x="1682640" y="2362320"/>
            <a:ext cx="5776920" cy="411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9119-2017-4B68-B01E-307392225A2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ort Cameras Fit-Checked on Tur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shortcamsinturretfit1-02" descr=""/>
          <p:cNvPicPr/>
          <p:nvPr/>
        </p:nvPicPr>
        <p:blipFill>
          <a:blip r:embed="rId1"/>
          <a:stretch/>
        </p:blipFill>
        <p:spPr>
          <a:xfrm>
            <a:off x="183024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9E98-8CF5-4216-9B05-38FB657C7A5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Cameras – Long Blue and Red (far left and right) and Short Blue and Red (ce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4cameras1-02" descr=""/>
          <p:cNvPicPr/>
          <p:nvPr/>
        </p:nvPicPr>
        <p:blipFill>
          <a:blip r:embed="rId1"/>
          <a:stretch/>
        </p:blipFill>
        <p:spPr>
          <a:xfrm>
            <a:off x="1833480" y="2362320"/>
            <a:ext cx="5475240" cy="410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9125-5D23-444F-B5C6-AECBBF83CE5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to October QR - Issues to be Review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on of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s delivery/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/optical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Assy 3D/2D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lkhead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 component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s 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P (Pl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on Sh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work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U late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ation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362320"/>
            <a:ext cx="8610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9C82-E91C-47F7-A40A-AB5879DB57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or Focus Frame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DetFocusFrameAssy1-02a" descr=""/>
          <p:cNvPicPr/>
          <p:nvPr/>
        </p:nvPicPr>
        <p:blipFill>
          <a:blip r:embed="rId1"/>
          <a:stretch/>
        </p:blipFill>
        <p:spPr>
          <a:xfrm>
            <a:off x="2205000" y="2362320"/>
            <a:ext cx="473544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952E-D980-4580-A8F6-29839D16CE1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ting &amp; Prism Turrets and Cold Test Fix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gratng-prismturtscoldtestfix12-01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B334-DEBB-4353-918B-CADB916F8D7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ting Turret Fit Check into Optical Ben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gratngturrtfitchkinoptbench12-01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DEE8-EC12-4733-A15D-48539C8C142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Slit Bench Fit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reslitbenchfitchk12-01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2F27-6D9F-421A-B797-9A71B43E8CA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ism Turret Mounted to Cold Test Fix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rismturtoncoldtestfix12-01" descr=""/>
          <p:cNvPicPr/>
          <p:nvPr/>
        </p:nvPicPr>
        <p:blipFill>
          <a:blip r:embed="rId1"/>
          <a:stretch/>
        </p:blipFill>
        <p:spPr>
          <a:xfrm>
            <a:off x="2354400" y="2444760"/>
            <a:ext cx="4433760" cy="41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4EB8-E979-462B-8A42-17E47E346FC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it Slide Fit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slitslidefitcheck12-01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043F-E70D-473E-9E9F-E7A527E205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al Bench Preliminary Fit Che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optbenchfitcheck1-02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276720" y="6573960"/>
            <a:ext cx="259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 Hil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1E06A-2277-4274-AF7C-16EEAC6861C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tical Bench Fit Check &amp; T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ptbnchfitcheckgroup12-01" descr=""/>
          <p:cNvPicPr/>
          <p:nvPr/>
        </p:nvPicPr>
        <p:blipFill>
          <a:blip r:embed="rId1"/>
          <a:stretch/>
        </p:blipFill>
        <p:spPr>
          <a:xfrm>
            <a:off x="1828800" y="244008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47920" y="6553080"/>
            <a:ext cx="61722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 Bennett, Ed Hileman, Al Davis, John Stein, Gary Muller, Dick Joyce, John And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570E-9A41-4D19-9F6C-04D7B8A5F0D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ew down Collimator to Optical P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collimatortoopticpath12-01" descr=""/>
          <p:cNvPicPr/>
          <p:nvPr/>
        </p:nvPicPr>
        <p:blipFill>
          <a:blip r:embed="rId1"/>
          <a:stretch/>
        </p:blipFill>
        <p:spPr>
          <a:xfrm>
            <a:off x="1830240" y="2363760"/>
            <a:ext cx="54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AF25-A449-42DE-8B10-F6C17ECF1EC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mbled Bulkheads &amp; Dewar Shells before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hamb001" descr=""/>
          <p:cNvPicPr/>
          <p:nvPr/>
        </p:nvPicPr>
        <p:blipFill>
          <a:blip r:embed="rId1"/>
          <a:stretch/>
        </p:blipFill>
        <p:spPr>
          <a:xfrm>
            <a:off x="1824120" y="2381400"/>
            <a:ext cx="54943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230B-9D37-492D-AECF-5ABADC6C4FE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98108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WFS component integr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etector installation on ho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iting for Gemini decision on prism. February cut-off d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s delivery/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sm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 rework i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chanism/optical te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Complete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ayed because of fabrication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complete in M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xed Assembly 3D/2D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Comple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ation shields still in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ion expected in Jan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khead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t checks complete except for radiation sh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war component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cs proc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Complet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Simulator optics not yet purch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imulator is in design stage.  Not a pacing item.  Rescheduled to a later d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6A99-D2EC-4F9C-BAB2-8E226E9487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cuum Testing of Cha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Chamb004" descr=""/>
          <p:cNvPicPr/>
          <p:nvPr/>
        </p:nvPicPr>
        <p:blipFill>
          <a:blip r:embed="rId1"/>
          <a:stretch/>
        </p:blipFill>
        <p:spPr>
          <a:xfrm>
            <a:off x="1828800" y="2363760"/>
            <a:ext cx="54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03F4-1261-4148-8A2B-D180F18B496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gent Bars &amp; Collimator Gimb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unt 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assy7tangentbars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A854-5950-4DC9-BE88-152C4935FF5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lkhead after Pain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bulkheadpntd11-01a" descr=""/>
          <p:cNvPicPr/>
          <p:nvPr/>
        </p:nvPicPr>
        <p:blipFill>
          <a:blip r:embed="rId1"/>
          <a:stretch/>
        </p:blipFill>
        <p:spPr>
          <a:xfrm>
            <a:off x="3027240" y="2281320"/>
            <a:ext cx="3089520" cy="41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DA8C-C53A-497A-B14D-F26B86826B9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lkhead Det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bulkhddetail11-01" descr=""/>
          <p:cNvPicPr/>
          <p:nvPr/>
        </p:nvPicPr>
        <p:blipFill>
          <a:blip r:embed="rId1"/>
          <a:stretch/>
        </p:blipFill>
        <p:spPr>
          <a:xfrm>
            <a:off x="3032280" y="2292480"/>
            <a:ext cx="3081240" cy="41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8A86-B453-46B9-98A5-F9844E30E17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lkheads being Assem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assy3GaryAl12-4" descr=""/>
          <p:cNvPicPr/>
          <p:nvPr/>
        </p:nvPicPr>
        <p:blipFill>
          <a:blip r:embed="rId1"/>
          <a:stretch/>
        </p:blipFill>
        <p:spPr>
          <a:xfrm>
            <a:off x="1824120" y="2357280"/>
            <a:ext cx="5494320" cy="4119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3276720" y="6497640"/>
            <a:ext cx="259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Davis, Gary Mu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8B8F-3C33-4964-B987-38FC91E548E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y Assembled Bulkhead &amp;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war Sh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assy6Ed" descr=""/>
          <p:cNvPicPr/>
          <p:nvPr/>
        </p:nvPicPr>
        <p:blipFill>
          <a:blip r:embed="rId1"/>
          <a:stretch/>
        </p:blipFill>
        <p:spPr>
          <a:xfrm>
            <a:off x="1830240" y="2324160"/>
            <a:ext cx="5484960" cy="4113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276720" y="6421320"/>
            <a:ext cx="2590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d Hil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B479-65A2-47CE-9577-7A7913F3CEA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 Assembly on Handling C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DCP01800" descr=""/>
          <p:cNvPicPr/>
          <p:nvPr/>
        </p:nvPicPr>
        <p:blipFill>
          <a:blip r:embed="rId1"/>
          <a:stretch/>
        </p:blipFill>
        <p:spPr>
          <a:xfrm>
            <a:off x="1828800" y="2363760"/>
            <a:ext cx="54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A20A-89B7-45C2-A252-1D777A3133C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BS Ch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EBFD-A7EC-4920-A734-30FC2E46935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tone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FR (3/0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057400" y="1676520"/>
          <a:ext cx="502920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5029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179B-97EC-41D0-A4DB-E8BBEA5F54F6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981080" y="1066680"/>
            <a:ext cx="5410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S - Tot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wbs1-16-0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457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7B85-8A3F-4EE7-943D-E665268B54B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7924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to October Q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ned Completions by this Quarterly Revie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and 2D design of all fixed assemb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brication of all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brication of the Bulkhea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hanical fabrication except f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work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ipping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ms associated with flexure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hanism and optical subassembly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 all op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ics fabrication and checkout except f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c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work i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itial software 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 controller software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WFS component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orders for Chile Delivery and for Differential Pressur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al out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EF7C-9A5D-49B6-AEC9-AE8F841C0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06E1-E5C3-49BC-BA98-B589017F3423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5:07:45Z</dcterms:created>
  <dc:creator>Valued Gateway Client</dc:creator>
  <dc:description/>
  <dc:language>en-US</dc:language>
  <cp:lastModifiedBy>Melissa Bowersock</cp:lastModifiedBy>
  <dcterms:modified xsi:type="dcterms:W3CDTF">2002-01-24T20:59:56Z</dcterms:modified>
  <cp:revision>428</cp:revision>
  <dc:subject/>
  <dc:title>PowerPoint Presentation</dc:title>
</cp:coreProperties>
</file>