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3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9.jpeg" ContentType="image/jpeg"/>
  <Override PartName="/ppt/media/image35.wmf" ContentType="image/x-wmf"/>
  <Override PartName="/ppt/media/image30.jpeg" ContentType="image/jpeg"/>
  <Override PartName="/ppt/media/image37.wmf" ContentType="image/x-wmf"/>
  <Override PartName="/ppt/media/image33.jpeg" ContentType="image/jpeg"/>
  <Override PartName="/ppt/media/image34.wmf" ContentType="image/x-wmf"/>
  <Override PartName="/ppt/media/image36.wmf" ContentType="image/x-wmf"/>
  <Override PartName="/ppt/media/image38.wmf" ContentType="image/x-wmf"/>
  <Override PartName="/ppt/media/image39.wmf" ContentType="image/x-wmf"/>
  <Override PartName="/ppt/media/image7.png" ContentType="image/png"/>
  <Override PartName="/ppt/media/image15.wmf" ContentType="image/x-wmf"/>
  <Override PartName="/ppt/media/image31.jpeg" ContentType="image/jpeg"/>
  <Override PartName="/ppt/media/image10.wmf" ContentType="image/x-wmf"/>
  <Override PartName="/ppt/media/image25.jpeg" ContentType="image/jpeg"/>
  <Override PartName="/ppt/media/image6.png" ContentType="image/png"/>
  <Override PartName="/ppt/media/image14.wmf" ContentType="image/x-wmf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3.jpeg" ContentType="image/jpeg"/>
  <Override PartName="/ppt/media/image18.wmf" ContentType="image/x-wmf"/>
  <Override PartName="/ppt/media/image2.jpeg" ContentType="image/jpeg"/>
  <Override PartName="/ppt/media/image1.png" ContentType="image/png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E564-11F9-4B74-8C07-68BC4CCE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AB0-457F-4E2B-8275-EDF1B292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2A2-5477-4E99-8542-E971BC1E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82F-4AA9-492D-8DF9-C2F5E735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502-262C-40AA-949D-E32DDB1C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BAFD-8EFD-4143-B6B9-D2BF6F4C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237-40DC-47EF-8188-0EF9A348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030-4210-44C9-BB02-1996D007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2BF-2DB8-4208-AB88-16E15F28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CF2-A854-4E15-9D8D-77745163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B5F-7931-4AC1-BE86-5B029202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C5A-9486-4673-8A32-F5A030A6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15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9ADB-B2B5-4D8E-8B1C-F3ACA3DF5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NIRStop" descr=""/>
          <p:cNvPicPr/>
          <p:nvPr/>
        </p:nvPicPr>
        <p:blipFill>
          <a:blip r:embed="rId2"/>
          <a:stretch/>
        </p:blipFill>
        <p:spPr>
          <a:xfrm>
            <a:off x="181080" y="152280"/>
            <a:ext cx="4162320" cy="882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562720" y="380880"/>
            <a:ext cx="3276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Quarterly Review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November 15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9528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NIRS Quarterly Review #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5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ockup-MT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5229360" cy="34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A79-CC76-4778-BF2D-719D450829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lexure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TRA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 presented 8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s, optics modeled as rigid bodies (reasonable assum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lts and displacements calculated for 3 orthogonal gravity v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subsequent mod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ffened high-flexure areas identified by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ied all mechanism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s in flexure should be modest; expected but not required to impr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178-421A-4EEE-9B29-C19072B75D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ENCH(-Y)ELEV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05360" cy="4657680"/>
          </a:xfrm>
          <a:prstGeom prst="rect">
            <a:avLst/>
          </a:prstGeom>
          <a:ln w="0">
            <a:noFill/>
          </a:ln>
        </p:spPr>
      </p:pic>
      <p:pic>
        <p:nvPicPr>
          <p:cNvPr id="64" name="BENCH(-Y)ISO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2210040" cy="1536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 Assembly F.E.A. Model</a:t>
            </a:r>
            <a:br>
              <a:rPr sz="3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ormed shape scaled by 7500x loading; gravity in the –y direction; scale in in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8001000" y="2438280"/>
            <a:ext cx="685800" cy="246240"/>
            <a:chOff x="8001000" y="2438280"/>
            <a:chExt cx="685800" cy="246240"/>
          </a:xfrm>
        </p:grpSpPr>
        <p:sp>
          <p:nvSpPr>
            <p:cNvPr id="67" name=""/>
            <p:cNvSpPr/>
            <p:nvPr/>
          </p:nvSpPr>
          <p:spPr>
            <a:xfrm>
              <a:off x="8153280" y="2438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001000" y="26668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819520" y="60958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te: Much of the Offner deflection is due to rigid body motion of the assembly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ith respect to its support bulkhead, and will not contribute image decent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06D8-DE10-4778-950A-3A76774AE6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BENCH(X)PLAN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659480"/>
          </a:xfrm>
          <a:prstGeom prst="rect">
            <a:avLst/>
          </a:prstGeom>
          <a:ln w="0">
            <a:noFill/>
          </a:ln>
        </p:spPr>
      </p:pic>
      <p:pic>
        <p:nvPicPr>
          <p:cNvPr id="71" name="BENCH(X)ISO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2362320" cy="1643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83808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 Assembly F.E.A. Model</a:t>
            </a:r>
            <a:br>
              <a:rPr sz="3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ormed shape scaled by 7500x loading; gravity in the –x direction; scale in in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001000" y="1828800"/>
            <a:ext cx="685800" cy="246240"/>
            <a:chOff x="8001000" y="1828800"/>
            <a:chExt cx="685800" cy="246240"/>
          </a:xfrm>
        </p:grpSpPr>
        <p:sp>
          <p:nvSpPr>
            <p:cNvPr id="74" name=""/>
            <p:cNvSpPr/>
            <p:nvPr/>
          </p:nvSpPr>
          <p:spPr>
            <a:xfrm>
              <a:off x="8153280" y="1828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8001000" y="2057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8DA7-33C8-473D-AAB5-D889B4CD4A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ENCH(Z)PLAN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782040" cy="4778640"/>
          </a:xfrm>
          <a:prstGeom prst="rect">
            <a:avLst/>
          </a:prstGeom>
          <a:ln w="0">
            <a:noFill/>
          </a:ln>
        </p:spPr>
      </p:pic>
      <p:pic>
        <p:nvPicPr>
          <p:cNvPr id="77" name="BENCH(Z)ISO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2210040" cy="1536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66680" y="83808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 Assembly F.E.A. Model</a:t>
            </a:r>
            <a:br>
              <a:rPr sz="3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ormed shape scaled by 7500x loading; gravity in the –z direction; scale in in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001000" y="3124080"/>
            <a:ext cx="685800" cy="246240"/>
            <a:chOff x="8001000" y="3124080"/>
            <a:chExt cx="685800" cy="246240"/>
          </a:xfrm>
        </p:grpSpPr>
        <p:sp>
          <p:nvSpPr>
            <p:cNvPr id="80" name=""/>
            <p:cNvSpPr/>
            <p:nvPr/>
          </p:nvSpPr>
          <p:spPr>
            <a:xfrm>
              <a:off x="8153280" y="31240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001000" y="3352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BB9-4B0E-48BB-9FFD-95637AEE03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lexure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ions done independently with 2 programs by E. Pearson and M. Liang: good agre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cs laid out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ordin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ed with rigid-body rotation of spectrograph (should have no net eff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y NASTRAN tilts/displacements to optical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7C6-8E60-416B-BCF7-0D9B9A3AD7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quad1-trans%2001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122880" cy="4970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440" y="11426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tical Ray T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486400"/>
            <a:ext cx="3657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ed ray: Spectro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lue ray: On-Instrument Wave Front 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8D7-FDDC-40F1-849A-B9E9B9370B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lexure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3048120"/>
            <a:ext cx="693432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- WFS to S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tial flexure of WFS relative to slit should keep star centered on slit to &lt;1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 during 1 h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shifts in microns for 1 gravit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st case for 1 hour ~5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 sh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ets specification comforta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4343400"/>
            <a:ext cx="2743200" cy="1067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4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9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.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0.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6CF-F9D0-453E-854E-8B52CE039F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lexure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- Slit to Detector to S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ial motion between slit/star and detector should keep image centered to 2.7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 (0.1 pixel) during 1 h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of slit image in dispersion direction (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 of star image along slit (y) (motion of slit image simi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shifts in microns for 1 grav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5105520"/>
            <a:ext cx="2743200" cy="1067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3.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4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1.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24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3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BD8-38AF-4B45-81E9-1EDF01ABB7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lexure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- Slit to Detector to Slit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st case 1 hour in z = 7.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; worst case in y = 4.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 collimator mount to provide passive compensation for 2 largest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st case in y now 1.8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 in 1 hour (meets sp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st case in z now 3.7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 in 1 hour (factor of 1.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 final bench design to guide collimator mount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D35-00FF-4175-8F07-0DB4A7776E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440" y="2514600"/>
            <a:ext cx="5334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and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&amp;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get and Expendi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 and Capital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s for Next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24E-5924-43CC-9794-2FAA08EBAD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ure analysi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ix A -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ix B - List of Released Draw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B91-C4A8-4A4B-8AB7-0E60AC07AF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hanical Status #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ch design an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ch flexure analysis is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plate has been 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 to vendors with drawing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benches in fabrication as of 11/2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IWFS bench released 9/20; fabrication completes 11/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-Slit bench released on 9/20; 10%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slit bench drawings will be released 11/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 designs i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era turret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sition mirror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mechanism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ting turret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sm turret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DF1-625B-49B6-B550-99D495D9D9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chanical Status #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 components currently in fa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era hub spindle and drive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era barr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it/Deck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 wheel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sm common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or drive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yo heads/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be ordered in March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2F0-2D39-410C-8799-03750E1EE1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ctronics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controller thermal enclosure design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-stop circuit required for the mechanisms and the Phytron drivers has been designed and the schematics fin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cale model GNIRS for harnessing design has been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war, mechanisms and OIWFS cab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se cabling issues are being addressed thru the scale model GNIRS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 routing and possible intermediary conn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route cables around the Bench and thru the Radiation Sh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mplete GNIRS thermal enclosure parts list has been prepa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ation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al enclosure wiring and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war and shield interface PCB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ors and boards on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E57-4A8B-4379-BAA7-2B04E24614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ftware 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21333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 Controller code 56%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level (EPICS) code 7%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iting for completion of the electronics thermal en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xt phase is actual testing of component controller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 drive and mechanism status/position s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B8B-A7B0-41B6-A4FA-5DD56DE9AB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tics 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ses and 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lenses &amp; windows in fabrication with RMI; 11 of 18 acce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Ba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enses for short red and blue cameras re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lots of Ba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aterial have failed so far; a third lot is i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pil viewer lenses ordered and 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t mirrors to be ordered as individual mechanism design proceeds; 2 aluminum substrates &amp; 7 glass subst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ter rulings complete and tes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ting replicas to be ordered by 12/15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filters ordered through UH consortium; 2 failed spec and vendor is expected to re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ms to be ordered by 12/15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C22-2F82-4CF8-8780-8001ED7C8C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ytron Motor St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120" y="3048120"/>
            <a:ext cx="6172200" cy="27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or qualification ini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ed 4 motors, 3 out of 4 fai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tron is replacing all 12 mo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ivery of first 4 replacements expected 11/15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lification will proceed after 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Gemini spare motors available on loan; these will support mechanism cold testing until motors pass m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6BB-0CC3-4E9C-ADD5-4A419DBDBB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lems and Concer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IWFS component lat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cause resources to be diverted from other activities to work on OIWFS integration and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er wheel will arrive untes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cus assembly now in NIRI has been promised to us for January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ing bench fabrication without major re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ingency time to re-fabricate a bench component is mar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era drive assembly flexure testing still p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 modifications may affect turret drive designs on three mechan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ion of the RMI camera optics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terial lot failures have caused a significant delay in completing the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130 days required to grow a new 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are working to assist RMI in procuring 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m quotes and schedules on prisms still pe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C28-6142-489D-A787-B16A732A43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Phases of the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36560" y="2666880"/>
            <a:ext cx="7924680" cy="3048120"/>
            <a:chOff x="736560" y="2666880"/>
            <a:chExt cx="7924680" cy="3048120"/>
          </a:xfrm>
        </p:grpSpPr>
        <p:sp>
          <p:nvSpPr>
            <p:cNvPr id="113" name=""/>
            <p:cNvSpPr/>
            <p:nvPr/>
          </p:nvSpPr>
          <p:spPr>
            <a:xfrm>
              <a:off x="838080" y="304812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6560" y="266688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  Aug 99 – Feb 00  |   Mar 00 – Jun 01    |    Jul 01 – Jul 02    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8080" y="388620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76720" y="40132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29000" y="47242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05520" y="48769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8680" y="571500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342900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alysis &amp; Prototyp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5320" y="400680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-Fab 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33920" y="4343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sign/Fab/T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4120" y="487692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d-Fab 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67280" y="52578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gration &amp; T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2DA-A2F4-415E-BA5A-B4886B70BA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295280" y="2133720"/>
            <a:ext cx="6568920" cy="4266720"/>
            <a:chOff x="1295280" y="2133720"/>
            <a:chExt cx="6568920" cy="4266720"/>
          </a:xfrm>
        </p:grpSpPr>
        <p:graphicFrame>
          <p:nvGraphicFramePr>
            <p:cNvPr id="127" name=""/>
            <p:cNvGraphicFramePr/>
            <p:nvPr/>
          </p:nvGraphicFramePr>
          <p:xfrm>
            <a:off x="3713760" y="2133720"/>
            <a:ext cx="4150440" cy="4266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13760" y="2133720"/>
                      <a:ext cx="4150440" cy="42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"/>
            <p:cNvGraphicFramePr/>
            <p:nvPr/>
          </p:nvGraphicFramePr>
          <p:xfrm>
            <a:off x="1295280" y="2133720"/>
            <a:ext cx="2423160" cy="426672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2133720"/>
                      <a:ext cx="2423160" cy="42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629-F5BB-42C2-A56C-456B51CB22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Plan – Sheet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Visio1" descr=""/>
          <p:cNvPicPr/>
          <p:nvPr/>
        </p:nvPicPr>
        <p:blipFill>
          <a:blip r:embed="rId1"/>
          <a:stretch/>
        </p:blipFill>
        <p:spPr>
          <a:xfrm>
            <a:off x="1523880" y="1758960"/>
            <a:ext cx="6096240" cy="479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D81-4024-4003-BA1E-B26DB36C5A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6858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 and expenditures to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on last QR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08C-37D8-451F-B41C-64C443CE03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Plan – Sheet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Visio2" descr=""/>
          <p:cNvPicPr/>
          <p:nvPr/>
        </p:nvPicPr>
        <p:blipFill>
          <a:blip r:embed="rId1"/>
          <a:stretch/>
        </p:blipFill>
        <p:spPr>
          <a:xfrm>
            <a:off x="1523880" y="1758960"/>
            <a:ext cx="6096240" cy="476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498-971E-422D-B6F9-E6E36E9E09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Milestones by Quar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19320" y="1981080"/>
          <a:ext cx="6553080" cy="40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6553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924680" y="358128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of 11/3/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F39-5357-409F-A826-E3777B7D2F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lestones since PFR (5/0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295280" y="1579680"/>
          <a:ext cx="6400800" cy="512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79680"/>
                    <a:ext cx="64008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BDC-4BDD-4FDF-B6CB-7828183475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5120" y="1143000"/>
            <a:ext cx="533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ed vs Actual Expendi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38080" y="1676520"/>
            <a:ext cx="7315200" cy="4857120"/>
            <a:chOff x="838080" y="1676520"/>
            <a:chExt cx="7315200" cy="4857120"/>
          </a:xfrm>
        </p:grpSpPr>
        <p:grpSp>
          <p:nvGrpSpPr>
            <p:cNvPr id="144" name=""/>
            <p:cNvGrpSpPr/>
            <p:nvPr/>
          </p:nvGrpSpPr>
          <p:grpSpPr>
            <a:xfrm>
              <a:off x="976320" y="1676520"/>
              <a:ext cx="7086240" cy="1904760"/>
              <a:chOff x="976320" y="1676520"/>
              <a:chExt cx="7086240" cy="1904760"/>
            </a:xfrm>
          </p:grpSpPr>
          <p:graphicFrame>
            <p:nvGraphicFramePr>
              <p:cNvPr id="145" name=""/>
              <p:cNvGraphicFramePr/>
              <p:nvPr/>
            </p:nvGraphicFramePr>
            <p:xfrm>
              <a:off x="976320" y="1676520"/>
              <a:ext cx="3228840" cy="19047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4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76320" y="1676520"/>
                        <a:ext cx="3228840" cy="19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7" name=""/>
              <p:cNvGraphicFramePr/>
              <p:nvPr/>
            </p:nvGraphicFramePr>
            <p:xfrm>
              <a:off x="4187520" y="1676520"/>
              <a:ext cx="3875040" cy="190476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1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187520" y="1676520"/>
                        <a:ext cx="3875040" cy="19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49" name=""/>
            <p:cNvGraphicFramePr/>
            <p:nvPr/>
          </p:nvGraphicFramePr>
          <p:xfrm>
            <a:off x="838080" y="3733560"/>
            <a:ext cx="3648240" cy="2790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080" y="3733560"/>
                      <a:ext cx="3648240" cy="27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4495680" y="3752640"/>
            <a:ext cx="3657600" cy="278100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95680" y="3752640"/>
                      <a:ext cx="3657600" cy="278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5691-3ED9-4915-A62B-4C1DA32632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pital and Labor Com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pital reported is as of 11/3/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pital expenditures have been charged to procurement instead of the respective WBS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bor histogram shows the result of shared resources, utilizing fewer instrument makers and subcontracting work vs. doing it in-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expenditures are expected to increase substantially in the next two quar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993E-84B9-4388-A640-5E929FBF3C5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ned vs Actual Expendi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B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Ti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n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at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NIRS To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$3,821,05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,393,69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,341,4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$1,149,62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426,42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396,1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s E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$   232,98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220,21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263,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3.1  Mechanis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$   951,85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380,58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255,8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3.2  Bench Assembli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$   303,03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 119,14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  59,4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3.3  Fixed Assemblies      $   501,17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  23,22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  14,8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4     Electroni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$  146,36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  43,6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  35,9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$  108,8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  16,24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  32,3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$  201,9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       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7     Deliverabl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$    37,16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       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 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$  188,09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 164,15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295,2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09B-2C0D-480F-B738-D72A17985E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089000" y="1311120"/>
          <a:ext cx="7010280" cy="523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311120"/>
                    <a:ext cx="7010280" cy="52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98B-9C08-4187-BE8F-4F38E764A02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947880" y="1442880"/>
            <a:ext cx="7250040" cy="4626000"/>
            <a:chOff x="947880" y="1442880"/>
            <a:chExt cx="7250040" cy="4626000"/>
          </a:xfrm>
        </p:grpSpPr>
        <p:graphicFrame>
          <p:nvGraphicFramePr>
            <p:cNvPr id="160" name=""/>
            <p:cNvGraphicFramePr/>
            <p:nvPr/>
          </p:nvGraphicFramePr>
          <p:xfrm>
            <a:off x="947880" y="1442880"/>
            <a:ext cx="7250040" cy="4626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47880" y="1442880"/>
                      <a:ext cx="7250040" cy="462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4724280" y="579132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an 9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FF8-C805-4678-8FE4-A8423B7399D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010280" y="20574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806,2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759,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90720" y="1143000"/>
            <a:ext cx="7200720" cy="4987800"/>
            <a:chOff x="990720" y="1143000"/>
            <a:chExt cx="7200720" cy="4987800"/>
          </a:xfrm>
        </p:grpSpPr>
        <p:graphicFrame>
          <p:nvGraphicFramePr>
            <p:cNvPr id="166" name=""/>
            <p:cNvGraphicFramePr/>
            <p:nvPr/>
          </p:nvGraphicFramePr>
          <p:xfrm>
            <a:off x="990720" y="1143000"/>
            <a:ext cx="7200720" cy="4987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1143000"/>
                      <a:ext cx="7200720" cy="498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"/>
            <p:cNvSpPr/>
            <p:nvPr/>
          </p:nvSpPr>
          <p:spPr>
            <a:xfrm>
              <a:off x="4895640" y="58608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Jan 9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7AE-60DA-409B-BCC0-3AB8B9BC63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NIRS Project Organ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54080" y="1752480"/>
            <a:ext cx="7023240" cy="4838760"/>
            <a:chOff x="1054080" y="1752480"/>
            <a:chExt cx="7023240" cy="4838760"/>
          </a:xfrm>
        </p:grpSpPr>
        <p:sp>
          <p:nvSpPr>
            <p:cNvPr id="171" name=""/>
            <p:cNvSpPr/>
            <p:nvPr/>
          </p:nvSpPr>
          <p:spPr>
            <a:xfrm>
              <a:off x="5334120" y="5263920"/>
              <a:ext cx="2666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462480" y="2517840"/>
              <a:ext cx="2334600" cy="596880"/>
              <a:chOff x="3462480" y="2517840"/>
              <a:chExt cx="2334600" cy="5968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02080" y="2573280"/>
                <a:ext cx="2295000" cy="541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62480" y="2517840"/>
                <a:ext cx="2295000" cy="54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mini Projec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ject Manag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. Gaugha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164040" y="1752480"/>
              <a:ext cx="2909880" cy="615960"/>
              <a:chOff x="3164040" y="1752480"/>
              <a:chExt cx="2909880" cy="615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219840" y="1826640"/>
                <a:ext cx="2854080" cy="541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164040" y="1752480"/>
                <a:ext cx="2854080" cy="54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irector, NOA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. Wolf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781280" y="3238560"/>
              <a:ext cx="2363760" cy="455040"/>
              <a:chOff x="1781280" y="3238560"/>
              <a:chExt cx="2363760" cy="455040"/>
            </a:xfrm>
          </p:grpSpPr>
          <p:sp>
            <p:nvSpPr>
              <p:cNvPr id="179" name=""/>
              <p:cNvSpPr/>
              <p:nvPr/>
            </p:nvSpPr>
            <p:spPr>
              <a:xfrm>
                <a:off x="1847880" y="3293640"/>
                <a:ext cx="2297160" cy="39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81280" y="3238560"/>
                <a:ext cx="2297160" cy="39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ject Assist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. Eklund (.5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5138640" y="3238560"/>
              <a:ext cx="2363760" cy="455400"/>
              <a:chOff x="5138640" y="3238560"/>
              <a:chExt cx="2363760" cy="455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205240" y="3293640"/>
                <a:ext cx="2297160" cy="400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38640" y="3238560"/>
                <a:ext cx="229716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dministrative Assist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. Bowerso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079640" y="4057560"/>
              <a:ext cx="1039680" cy="834480"/>
              <a:chOff x="1079640" y="4057560"/>
              <a:chExt cx="1039680" cy="834480"/>
            </a:xfrm>
          </p:grpSpPr>
          <p:sp>
            <p:nvSpPr>
              <p:cNvPr id="185" name=""/>
              <p:cNvSpPr/>
              <p:nvPr/>
            </p:nvSpPr>
            <p:spPr>
              <a:xfrm>
                <a:off x="1123920" y="4092120"/>
                <a:ext cx="995400" cy="799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079640" y="4057560"/>
                <a:ext cx="995400" cy="79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ject Scientist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ystems Engineer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J. Eli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4044960"/>
              <a:ext cx="1067040" cy="761760"/>
              <a:chOff x="2209680" y="4044960"/>
              <a:chExt cx="1067040" cy="761760"/>
            </a:xfrm>
          </p:grpSpPr>
          <p:sp>
            <p:nvSpPr>
              <p:cNvPr id="188" name=""/>
              <p:cNvSpPr/>
              <p:nvPr/>
            </p:nvSpPr>
            <p:spPr>
              <a:xfrm>
                <a:off x="2274120" y="4103640"/>
                <a:ext cx="1002600" cy="703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09680" y="4044960"/>
                <a:ext cx="1002600" cy="70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echanical Engineers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. Hileman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. Mull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471920" y="4057560"/>
              <a:ext cx="1056960" cy="722160"/>
              <a:chOff x="4471920" y="4057560"/>
              <a:chExt cx="1056960" cy="722160"/>
            </a:xfrm>
          </p:grpSpPr>
          <p:sp>
            <p:nvSpPr>
              <p:cNvPr id="191" name=""/>
              <p:cNvSpPr/>
              <p:nvPr/>
            </p:nvSpPr>
            <p:spPr>
              <a:xfrm>
                <a:off x="4535280" y="4113000"/>
                <a:ext cx="993600" cy="666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471920" y="4057560"/>
                <a:ext cx="993600" cy="66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lectrical 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J. Peneg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333600" y="4057560"/>
              <a:ext cx="1059120" cy="722160"/>
              <a:chOff x="3333600" y="4057560"/>
              <a:chExt cx="1059120" cy="722160"/>
            </a:xfrm>
          </p:grpSpPr>
          <p:sp>
            <p:nvSpPr>
              <p:cNvPr id="194" name=""/>
              <p:cNvSpPr/>
              <p:nvPr/>
            </p:nvSpPr>
            <p:spPr>
              <a:xfrm>
                <a:off x="3397320" y="4113000"/>
                <a:ext cx="995400" cy="666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33600" y="4057560"/>
                <a:ext cx="995400" cy="66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ptical 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. Lia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678640" y="4057560"/>
              <a:ext cx="1058760" cy="722160"/>
              <a:chOff x="5678640" y="4057560"/>
              <a:chExt cx="1058760" cy="722160"/>
            </a:xfrm>
          </p:grpSpPr>
          <p:sp>
            <p:nvSpPr>
              <p:cNvPr id="197" name=""/>
              <p:cNvSpPr/>
              <p:nvPr/>
            </p:nvSpPr>
            <p:spPr>
              <a:xfrm>
                <a:off x="5742360" y="4113000"/>
                <a:ext cx="995040" cy="666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78640" y="4057560"/>
                <a:ext cx="995040" cy="66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urement &amp; Vendor Liais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. Davi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6842160" y="4057560"/>
              <a:ext cx="1058760" cy="722160"/>
              <a:chOff x="6842160" y="4057560"/>
              <a:chExt cx="1058760" cy="722160"/>
            </a:xfrm>
          </p:grpSpPr>
          <p:sp>
            <p:nvSpPr>
              <p:cNvPr id="200" name=""/>
              <p:cNvSpPr/>
              <p:nvPr/>
            </p:nvSpPr>
            <p:spPr>
              <a:xfrm>
                <a:off x="6905880" y="4113000"/>
                <a:ext cx="995040" cy="666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842160" y="4057560"/>
                <a:ext cx="995040" cy="666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ftwa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. Wolf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1054080" y="4994280"/>
              <a:ext cx="1058760" cy="855360"/>
              <a:chOff x="1054080" y="4994280"/>
              <a:chExt cx="1058760" cy="855360"/>
            </a:xfrm>
          </p:grpSpPr>
          <p:sp>
            <p:nvSpPr>
              <p:cNvPr id="203" name=""/>
              <p:cNvSpPr/>
              <p:nvPr/>
            </p:nvSpPr>
            <p:spPr>
              <a:xfrm>
                <a:off x="1117800" y="5059800"/>
                <a:ext cx="995040" cy="789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54080" y="4994280"/>
                <a:ext cx="995040" cy="789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upport Scientis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. Joyce (.5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[B. Gregory]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171880" y="4908600"/>
              <a:ext cx="1058760" cy="1213920"/>
              <a:chOff x="2171880" y="4908600"/>
              <a:chExt cx="1058760" cy="1213920"/>
            </a:xfrm>
          </p:grpSpPr>
          <p:sp>
            <p:nvSpPr>
              <p:cNvPr id="206" name=""/>
              <p:cNvSpPr/>
              <p:nvPr/>
            </p:nvSpPr>
            <p:spPr>
              <a:xfrm>
                <a:off x="2235240" y="4943160"/>
                <a:ext cx="995400" cy="117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171880" y="4908600"/>
                <a:ext cx="995400" cy="1145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echanical Design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J. Andr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. Ros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. Downe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. Robl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. Circ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452840" y="4908600"/>
              <a:ext cx="1057320" cy="728640"/>
              <a:chOff x="4452840" y="4908600"/>
              <a:chExt cx="1057320" cy="728640"/>
            </a:xfrm>
          </p:grpSpPr>
          <p:sp>
            <p:nvSpPr>
              <p:cNvPr id="209" name=""/>
              <p:cNvSpPr/>
              <p:nvPr/>
            </p:nvSpPr>
            <p:spPr>
              <a:xfrm>
                <a:off x="4516200" y="4970160"/>
                <a:ext cx="993960" cy="667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52840" y="4908600"/>
                <a:ext cx="993960" cy="66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lectrical Technicia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. Georg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4610160" y="2315880"/>
              <a:ext cx="0" cy="2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10160" y="308592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12800" y="3854520"/>
              <a:ext cx="575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32440" y="3475080"/>
              <a:ext cx="98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01640" y="385452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05040" y="385452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65680" y="385452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97520" y="385452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86600" y="385452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73880" y="385452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01640" y="4879800"/>
              <a:ext cx="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05040" y="4808520"/>
              <a:ext cx="0" cy="10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70520" y="47592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68760" y="5846760"/>
              <a:ext cx="2608560" cy="74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dded: R. George/ D. Circ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Transferred: No chang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pdated 11/1/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5691240" y="4914720"/>
              <a:ext cx="1058760" cy="722520"/>
              <a:chOff x="5691240" y="4914720"/>
              <a:chExt cx="1058760" cy="722520"/>
            </a:xfrm>
          </p:grpSpPr>
          <p:sp>
            <p:nvSpPr>
              <p:cNvPr id="226" name=""/>
              <p:cNvSpPr/>
              <p:nvPr/>
            </p:nvSpPr>
            <p:spPr>
              <a:xfrm>
                <a:off x="5754960" y="4970160"/>
                <a:ext cx="995040" cy="667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91240" y="4914720"/>
                <a:ext cx="995040" cy="66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neral Technicia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J. Pina (.5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6892920" y="4914720"/>
              <a:ext cx="1058760" cy="722520"/>
              <a:chOff x="6892920" y="4914720"/>
              <a:chExt cx="1058760" cy="722520"/>
            </a:xfrm>
          </p:grpSpPr>
          <p:sp>
            <p:nvSpPr>
              <p:cNvPr id="229" name=""/>
              <p:cNvSpPr/>
              <p:nvPr/>
            </p:nvSpPr>
            <p:spPr>
              <a:xfrm>
                <a:off x="6956640" y="4970160"/>
                <a:ext cx="995040" cy="667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92920" y="4914720"/>
                <a:ext cx="995040" cy="66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gramm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. Ruck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6202440" y="47718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85040" y="477180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60600" y="5400720"/>
              <a:ext cx="1057320" cy="728640"/>
              <a:chOff x="3360600" y="5400720"/>
              <a:chExt cx="1057320" cy="728640"/>
            </a:xfrm>
          </p:grpSpPr>
          <p:sp>
            <p:nvSpPr>
              <p:cNvPr id="234" name=""/>
              <p:cNvSpPr/>
              <p:nvPr/>
            </p:nvSpPr>
            <p:spPr>
              <a:xfrm>
                <a:off x="3423960" y="5462280"/>
                <a:ext cx="993960" cy="667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60600" y="5400720"/>
                <a:ext cx="993960" cy="66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strument Mak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J. Ste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2701800" y="483372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54520" y="4833720"/>
              <a:ext cx="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25F-98CC-4E7F-B687-9BF6CC9549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livery date of the instrument has not 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ll scheduled for July-August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is 39%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are about 1.5 months behind schedule over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completed 45 of 225 total proje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s Engineering effort is essentially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ow-level code development is 56%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 fabrication has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ch fabrication is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IWFS bench completes this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Slit bench is at a ve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Slit bench releases this 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s fabrication has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3BB-C39C-421F-BA6E-4798B32D78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s for Next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xt Quarterly Review will be held in the February-March time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ject expects to make significant progress in 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benches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remaining mechanisms will be in fabr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ptics on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ts/Prisms/Grating repl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effort will concentrate on fixed assemb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lkhead 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war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unting tru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yo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ics TE fabrication should be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testing should be i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IWFS components integration/test should be under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E2FE-8876-48F7-BBF1-4DDFF9F1958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2819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endix A - Im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03FC-22E9-40E2-843C-B4261B0F940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Front Sensor Bench Rend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WFSrender2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4724280" cy="32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9DE-6ABD-43BE-94FE-A5C6E440DF5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Front Sensor Bench in F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WFSbench1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D04-E5B7-4C70-B68D-3F4A5B40280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Front Sensor Bench Rend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WFSrender1" descr=""/>
          <p:cNvPicPr/>
          <p:nvPr/>
        </p:nvPicPr>
        <p:blipFill>
          <a:blip r:embed="rId1"/>
          <a:stretch/>
        </p:blipFill>
        <p:spPr>
          <a:xfrm>
            <a:off x="2362320" y="2765520"/>
            <a:ext cx="4572000" cy="30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DA7-8AAB-45F9-A63B-E3C9227A8D6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Front Sensor Bench in F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WFSbench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7C6-120B-458D-B6B7-67B29C403D5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ve Front Sensor Bench C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WFSbenchCover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867280" cy="44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B6B-2947-487F-826A-878CC330032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era Turret Hub Assem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CameraTurretHub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42865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E2C-7E3C-4B20-A8B9-000BC97F939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era Turret - Fabrica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CameraTurret2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800600" cy="410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25D-DFE9-4941-BA56-97507B61DCB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-Slit Bench Assem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reSlit1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95324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057-ABD7-49F3-B9CC-62A1C402859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556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 from August ’9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pro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 &amp; Repor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s Enginee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ch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3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3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 Assembl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4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4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32BC-3A79-4BB7-A3D5-9DBB1184E7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ckoff/Fold Mirror Assem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koffFoldMirror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306-DAFF-4731-81FA-82E0F111921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sm Turret Assem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RISMTURRET11-00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257800" cy="42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1A00-94CE-42B8-9DE0-EB92154457F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sm Turret Hub Assem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RISMTURRETassy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410440" cy="432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BFF-0F86-494E-9872-A1BFAA9C214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819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endix B –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st of Released Draw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6D1-A5EF-4159-ACC0-DAC96E3CCD8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st of Released Draw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990720" y="1828800"/>
          <a:ext cx="712476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1247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C6C-44C7-470C-96DF-65398020745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st of Released Draw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990720" y="1800360"/>
          <a:ext cx="7124760" cy="42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00360"/>
                    <a:ext cx="7124760" cy="42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851-7281-4649-8908-81D5CC0F21F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st of Released Draw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914400" y="1876320"/>
          <a:ext cx="712476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76320"/>
                    <a:ext cx="712476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2D0-B3A1-442F-84D1-ED9F7AF94BB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st of Released Draw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838080" y="1905120"/>
          <a:ext cx="7124760" cy="42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124760" cy="42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5F7-DE51-4CA8-BE92-1D6C3241B3B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st of Released Draw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990720" y="1981080"/>
          <a:ext cx="712476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12476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403-8A61-4075-A996-79ED2B44B7F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st of Released Draw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009800" y="2481120"/>
          <a:ext cx="7124400" cy="18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2481120"/>
                    <a:ext cx="7124400" cy="18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DFA-93E8-4457-89EE-5ED490B52C1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line Estimate (Jan 99 to comple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b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3,391,2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836,4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4,227,6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Forecast (revised 9/15/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b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3,014,8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806,2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3,821,0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CWS = $ 1,431,06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udgeted cost of work schedul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CWP = $ 1,074,17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udgeted cost of work perform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WP = $    928,176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ctual cost of work performed) (source: 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PI =  1.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CWP/ACW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I =  0.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CWP/BCW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E0B-87C8-41C2-A977-9BD9A44C86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ed Status by this Quarterly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781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ation contract award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ptical ben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3D designs of all remaining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lens delivery and acceptance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ptics on order or deli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3D design of 5 of the 16 fixed assemb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electronics fa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OIWFS components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ry and linear prototype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ting master ruling test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2D80-D67F-45D0-B07F-2E4646F215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1676520"/>
          <a:ext cx="8610480" cy="4809960"/>
        </p:xfrm>
        <a:graphic>
          <a:graphicData uri="http://schemas.openxmlformats.org/drawingml/2006/table">
            <a:tbl>
              <a:tblPr/>
              <a:tblGrid>
                <a:gridCol w="2590560"/>
                <a:gridCol w="2895840"/>
                <a:gridCol w="312408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cal benches contra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vendors sel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brication completes next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3 of 8 mechanisms in fabr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3 mechanisms in fab or done: slit/decker, environmental cover and part of camera and filter whe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 3D design of remaining mechanis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Comple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3D Design of prism turret and focus mechanism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 complete 3D design of grating turret, acquisition mirror and rest of camera by end of this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 lens delivery and tes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comple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Delivery of BaF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la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lot ready in February, delivery in Ma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optics on order or delive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comple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Delayed by mechanism defin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 optics should be on order by December 1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 3D design of 5 fixed assembl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Thermal enclosure mount, front dewar shell, rear dewar shell, bulkhead, aft tangent b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 complete bulkhead assembly design by end of this 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 electronics fabr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e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Thermal enclosure and c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rmal enclosure should complete by Feb 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 OIWFS integ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complete -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nents delayed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gration tentatively scheduled for Janu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tary &amp; Linear Prototype tes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Results incorporated into desig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 carry out flexure testing on camera drive assembly to verify de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ting master ruling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Documented in SD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B46-8B94-4DDD-8BAC-BE62E30B8C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stems Engine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111120"/>
            <a:ext cx="77724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ure Analy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ed 10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s show no need for active compen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ive compensation via collimator mount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lysis will be used to guide mount design (later this y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urther analysis is in support of detailed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883-2C55-4D8A-B95A-B6521AB76E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5:07:45Z</dcterms:created>
  <dc:creator>Valued Gateway Client</dc:creator>
  <dc:description/>
  <dc:language>en-US</dc:language>
  <cp:lastModifiedBy>Melissa Bowersock</cp:lastModifiedBy>
  <dcterms:modified xsi:type="dcterms:W3CDTF">2000-11-15T14:45:28Z</dcterms:modified>
  <cp:revision>197</cp:revision>
  <dc:subject/>
  <dc:title>PowerPoint Presentation</dc:title>
</cp:coreProperties>
</file>